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5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48.wmf" ContentType="image/x-wmf"/>
  <Override PartName="/ppt/media/image50.png" ContentType="image/png"/>
  <Override PartName="/ppt/media/image13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1.png" ContentType="image/png"/>
  <Override PartName="/ppt/media/image40.png" ContentType="image/png"/>
  <Override PartName="/ppt/media/image38.jpeg" ContentType="image/jpeg"/>
  <Override PartName="/ppt/media/image39.png" ContentType="image/png"/>
  <Override PartName="/ppt/media/image9.png" ContentType="image/png"/>
  <Override PartName="/ppt/media/image32.png" ContentType="image/png"/>
  <Override PartName="/ppt/media/image31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4C1F-0E0C-4D07-9F07-068E131B1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E6DD-B3E0-4901-9532-2BB942824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turbing possibility is that they all lie on a sphere -- but then, if we didn’t know that the tokens belonged togeth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sphere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1AEA-EB32-4716-B4E5-C24EB4F16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nsider this slid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1A2B-FB85-4FAD-BF9C-192C254E3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c(x) is a vector of filter outputs.  A natural thing to do is to square the outputs  of a range of different filters at different scales and orientations, smooth the result, and rack these into a v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143F-AE4F-4D39-BEFA-C0D94D09C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igure 14.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A307-DA94-4530-BC48-4B3C8E94D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igure 14.23 - caption there explains it 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DF7F-821A-4514-BFE4-084D8861F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igure 14.24, whose caption gives the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4B00-8046-44AE-BBEC-EA24FD9C5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riteria that tend to cause tokens to be group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1817-BDC0-4786-BC3A-F25737FA1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gave each pixel the mean intensity or mean color of its cluster --- this is basically just vector quantizing the image intensities/colors.  Notice that there is no requirement that clusters be spatially localized and they’re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gorithm contains concepts that are hugely useful; in my experience, everyone with 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ence of applied problems who doesn’t yet know RANSAC is almost immediately able to use it to simplify some problem they’ve s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6365-1B2E-43B2-93A6-B2BD784F6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25C5-8DFE-4341-A7CA-748FA2A2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17DC-0E9C-4586-BAFF-1871D217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6246-E7DC-4DFE-838F-79C9B29A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6C2F-A154-429E-AB7C-8EA6ECC7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E295-D1CA-43C7-AEB8-C8466334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EC5D-7F88-4DE7-AD6C-14C02446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85AE-1CD9-4626-BD0D-B6D17F7E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91F4-93D3-43C5-8BD3-A6E33FA7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A153-1B6D-4784-A384-F1B7ABAF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30F-5CA7-4420-BE4D-C3CFB06C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7FE-68F5-4C78-B3F9-AB4B3A8F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053-3175-4CAA-A30A-D7B1A742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01B0-8B24-418D-93F3-ACEDF6860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001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073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Lecture 11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Segmentation and Grou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2792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ary Brad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bastian Th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38240" y="5979960"/>
            <a:ext cx="71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ttp://robots.stanford.edu/cs223b/inde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22320" y="6626160"/>
            <a:ext cx="9300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 Pictures from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an Shift: A Robust Approach toward Feature Space Analysis, by D. Comaniciu and P. Meer http://www.caip.rutgers.edu/~comanici/MSPAMI/msPamiResults.ht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07720" y="556272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96DD-FCDB-4129-AA25-AF669FA7D5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350040" cy="2108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45040" y="609480"/>
            <a:ext cx="37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y do these tokens belong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, the 3D nature of grouping is appar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895480" y="3733920"/>
            <a:ext cx="3200400" cy="292104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3581280" y="3962520"/>
            <a:ext cx="1828800" cy="2361960"/>
            <a:chOff x="3581280" y="3962520"/>
            <a:chExt cx="1828800" cy="2361960"/>
          </a:xfrm>
        </p:grpSpPr>
        <p:sp>
          <p:nvSpPr>
            <p:cNvPr id="86" name=""/>
            <p:cNvSpPr/>
            <p:nvPr/>
          </p:nvSpPr>
          <p:spPr>
            <a:xfrm>
              <a:off x="3581280" y="3962520"/>
              <a:ext cx="0" cy="2361960"/>
            </a:xfrm>
            <a:prstGeom prst="line">
              <a:avLst/>
            </a:prstGeom>
            <a:ln w="57240">
              <a:solidFill>
                <a:srgbClr val="00ff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10080" y="3962520"/>
              <a:ext cx="0" cy="2361960"/>
            </a:xfrm>
            <a:prstGeom prst="line">
              <a:avLst/>
            </a:prstGeom>
            <a:ln w="57240">
              <a:solidFill>
                <a:srgbClr val="00ff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682280" y="3352680"/>
            <a:ext cx="61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rs and creases in 3D, length is interpreted differen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92400" y="4227480"/>
            <a:ext cx="3324960" cy="1855800"/>
            <a:chOff x="5792400" y="4227480"/>
            <a:chExt cx="3324960" cy="1855800"/>
          </a:xfrm>
        </p:grpSpPr>
        <p:sp>
          <p:nvSpPr>
            <p:cNvPr id="90" name=""/>
            <p:cNvSpPr/>
            <p:nvPr/>
          </p:nvSpPr>
          <p:spPr>
            <a:xfrm>
              <a:off x="5792400" y="42274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92400" y="571500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Arial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38960" y="4419720"/>
              <a:ext cx="26784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The (in) line at the f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end of corridor mu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be longer than the (ou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near line if they meas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Arial"/>
                </a:rPr>
                <a:t>to be the same siz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4186-11A7-4B17-A6ED-CAE016E4B1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the famous invisible dog eating under a tre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952880" cy="38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664A-DAB7-41A9-AD14-7CE85FE125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6650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ckground Sub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45FF-50CE-4ED2-BC95-0E41DA3E09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18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 Sub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model of the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statistics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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; mixture of Gaussians; Adaptive filter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bsolute difference with current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xels greater than a threshold are candidate fore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orphological open operation to clean up point no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erse the image and use flood fill to measure size of candidate reg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as foreground those regions bigger than a set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 out regions that are too sm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 3 temporal mod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Quick regional changes are foreground (people, moving cars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Changes that stopped a medium time ago are candidate background (chairs that got moved etc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 Long term statistically stable regions are backgr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A723-B774-4D88-86EE-408118D19E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715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 Subtractio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52640" y="2773440"/>
            <a:ext cx="7253280" cy="221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C667-11A7-4F89-A6A9-0C3D626A2B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81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 Subtraction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81080" y="6183360"/>
            <a:ext cx="5334120" cy="674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981080" y="2438280"/>
            <a:ext cx="5322960" cy="689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981080" y="3236760"/>
            <a:ext cx="5316480" cy="971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981080" y="4317840"/>
            <a:ext cx="5316480" cy="971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981080" y="5398920"/>
            <a:ext cx="5330880" cy="675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8600" y="10666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ICCV 1999, MS Research presented a study, Wallflower: Principles and Practice of Background Maintenance, by Kentaro Toyama, John Krumm, Barry Brumitt, Brian Meyers.  This paper compared many different background subtraction techniques and came up with some princi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2514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32160" y="2616120"/>
            <a:ext cx="535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B509-D791-4419-A745-49AD148B18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19320" y="5029200"/>
            <a:ext cx="6208560" cy="1752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6208560" cy="2529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219320" y="3097080"/>
            <a:ext cx="6216480" cy="541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219320" y="3751200"/>
            <a:ext cx="6246720" cy="1165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 Techniques Compa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8685360" y="4061160"/>
            <a:ext cx="454680" cy="27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Wallflower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89A5-8FB5-4FF8-9149-C7A125CF7A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0520" y="1882800"/>
            <a:ext cx="780732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gmentation by Energy Minimiza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C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4200-D85A-4E29-841C-F05499ECB9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theoretic 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 tokens (which are associated with each pixel) using a weighted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inity matrix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same as 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&gt; affinity of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 up this graph to get subgraphs with strong interior links and weaker exterior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52600" y="5751360"/>
            <a:ext cx="60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to vision originated with Prof. Malik at Berke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C42F-011C-4C97-B1D0-6C8162DD21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6800" y="86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s Re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06160" y="25351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76200" y="3801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24160" y="438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63320" y="3465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70280" y="279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707080" y="2371680"/>
                <a:ext cx="2063880" cy="23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5571360" y="495792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acency Matrix: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54360" y="3112920"/>
            <a:ext cx="193680" cy="257400"/>
          </a:xfrm>
          <a:prstGeom prst="ellipse">
            <a:avLst/>
          </a:prstGeom>
          <a:solidFill>
            <a:srgbClr val="3333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86040" y="3873600"/>
            <a:ext cx="192240" cy="257040"/>
          </a:xfrm>
          <a:prstGeom prst="ellipse">
            <a:avLst/>
          </a:prstGeom>
          <a:solidFill>
            <a:srgbClr val="3333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73280" y="2774880"/>
            <a:ext cx="191880" cy="257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60680" y="3521160"/>
            <a:ext cx="191880" cy="255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54200" y="4213080"/>
            <a:ext cx="192240" cy="257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360" y="2911320"/>
            <a:ext cx="904680" cy="257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47880" y="2932200"/>
            <a:ext cx="936720" cy="1038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78120" y="3703680"/>
            <a:ext cx="927000" cy="30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854360" y="4048200"/>
            <a:ext cx="94284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98760" y="6613560"/>
            <a:ext cx="394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From Khurram Hassan-Shafiqu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5415 Computer Vision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C58B-218F-467A-9944-6236F76BB0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 In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nd w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gmen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learning the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nergy min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d C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Shift (perhaps the best technique to d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it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, but projects doing SFM should 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720" y="5667480"/>
            <a:ext cx="82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ing source: Forsyth Chapters in segmentation, available (at least this t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s.berkeley.edu/~daf/new-seg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ED7F-C096-4AA8-BDD9-135F124788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6800" y="861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ghted Graphs and Their Re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33360" y="2521080"/>
            <a:ext cx="2971800" cy="2695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120320" y="2546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92000" y="3957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03640" y="484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02880" y="3762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70280" y="279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567400" y="2371680"/>
                <a:ext cx="2344680" cy="23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5571000" y="4957920"/>
            <a:ext cx="24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ight Matrix: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22760" y="423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98760" y="6613560"/>
            <a:ext cx="394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From Khurram Hassan-Shafiqu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5415 Computer Vision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F203-243F-4BA4-948E-7EC9873BEA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3080" y="38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mum C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598760" y="2062080"/>
            <a:ext cx="2562120" cy="2494080"/>
            <a:chOff x="1598760" y="2062080"/>
            <a:chExt cx="2562120" cy="2494080"/>
          </a:xfrm>
        </p:grpSpPr>
        <p:sp>
          <p:nvSpPr>
            <p:cNvPr id="150" name=""/>
            <p:cNvSpPr/>
            <p:nvPr/>
          </p:nvSpPr>
          <p:spPr>
            <a:xfrm>
              <a:off x="2587680" y="2077920"/>
              <a:ext cx="249120" cy="297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1880" y="3263760"/>
              <a:ext cx="249120" cy="297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98760" y="2062080"/>
              <a:ext cx="249120" cy="297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11760" y="2333520"/>
              <a:ext cx="249120" cy="297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51280" y="3151080"/>
              <a:ext cx="249120" cy="297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16040" y="3124080"/>
              <a:ext cx="249120" cy="297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92480" y="3527280"/>
              <a:ext cx="249120" cy="297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32200" y="2682720"/>
              <a:ext cx="249120" cy="297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43120" y="4202280"/>
              <a:ext cx="249120" cy="296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47960" y="4259160"/>
              <a:ext cx="249480" cy="297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63720" y="2184480"/>
              <a:ext cx="7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09640" y="2351160"/>
              <a:ext cx="0" cy="76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5040" y="2316240"/>
              <a:ext cx="1009440" cy="10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39960" y="2244600"/>
              <a:ext cx="1141200" cy="49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70120" y="2340000"/>
              <a:ext cx="593640" cy="12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971720" y="3776760"/>
              <a:ext cx="355680" cy="49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46360" y="3408480"/>
              <a:ext cx="9360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529000" y="3490560"/>
              <a:ext cx="3096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005280" y="2968560"/>
              <a:ext cx="8244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2801880" y="2340000"/>
              <a:ext cx="23832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38600" y="2173320"/>
              <a:ext cx="104436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159000" y="2505240"/>
              <a:ext cx="771480" cy="2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82760" y="2862360"/>
              <a:ext cx="67644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35240" y="2909880"/>
              <a:ext cx="641520" cy="14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919680" y="3431880"/>
              <a:ext cx="10800" cy="83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013280" y="2623680"/>
              <a:ext cx="0" cy="5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935000" y="4429080"/>
              <a:ext cx="1828800" cy="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41600" y="3716280"/>
              <a:ext cx="1198440" cy="68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40200" y="3467160"/>
              <a:ext cx="7365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 flipH="1">
            <a:off x="1496880" y="1627200"/>
            <a:ext cx="914400" cy="340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039840" y="1627200"/>
            <a:ext cx="439560" cy="382428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831600" y="2529000"/>
            <a:ext cx="4012920" cy="13064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19760" y="1714680"/>
            <a:ext cx="400824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t of a grap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g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 removal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nnec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cut is the cut of minimum weight, where weight of cut &lt;A,B&gt; is given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168880" y="4892760"/>
                <a:ext cx="31417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w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5198760" y="6613560"/>
            <a:ext cx="394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From Khurram Hassan-Shafiqu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5415 Computer Vision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6757-260A-446C-AD7D-F5340B8C48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" dur="1" fill="hold"/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mum Cut and 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36520" y="2184480"/>
            <a:ext cx="3308400" cy="2219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057640" y="4192560"/>
            <a:ext cx="3684600" cy="1974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198760" y="6613560"/>
            <a:ext cx="394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From Khurram Hassan-Shafiqu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5415 Computer Vision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715000" y="1523880"/>
            <a:ext cx="2349360" cy="23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CD06-9A33-4DEF-8707-FB2A262014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698480" y="19350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20800" y="259704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30520" y="32497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92360" y="39132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27280" y="45766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11440" y="52261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11440" y="590076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05040" y="1817640"/>
            <a:ext cx="1440" cy="420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59120" y="1814400"/>
            <a:ext cx="1440" cy="420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27600" y="1827360"/>
            <a:ext cx="1440" cy="420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81680" y="1824120"/>
            <a:ext cx="1440" cy="420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54840" y="1816200"/>
            <a:ext cx="1440" cy="420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08920" y="1812960"/>
            <a:ext cx="1440" cy="420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 Segmentation &amp; Minimum C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685880" y="1817640"/>
            <a:ext cx="225360" cy="249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73280" y="2479680"/>
            <a:ext cx="225360" cy="249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84440" y="3132000"/>
            <a:ext cx="225360" cy="24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71480" y="3794040"/>
            <a:ext cx="225720" cy="24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82640" y="4451400"/>
            <a:ext cx="225360" cy="249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70040" y="5113440"/>
            <a:ext cx="225360" cy="249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81200" y="5765760"/>
            <a:ext cx="225360" cy="249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52560" y="1814400"/>
            <a:ext cx="225720" cy="24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39960" y="2476440"/>
            <a:ext cx="225360" cy="249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51120" y="3129120"/>
            <a:ext cx="225360" cy="249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38520" y="3790800"/>
            <a:ext cx="225360" cy="24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49680" y="4448160"/>
            <a:ext cx="225360" cy="249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36720" y="5110200"/>
            <a:ext cx="225720" cy="249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47880" y="5762520"/>
            <a:ext cx="225360" cy="24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8440" y="1827360"/>
            <a:ext cx="225360" cy="249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795840" y="2489040"/>
            <a:ext cx="225360" cy="24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07000" y="3141720"/>
            <a:ext cx="225360" cy="2491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94040" y="3803760"/>
            <a:ext cx="225360" cy="2491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5200" y="4460760"/>
            <a:ext cx="225360" cy="24948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92600" y="5122800"/>
            <a:ext cx="225360" cy="24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3760" y="5775480"/>
            <a:ext cx="225360" cy="249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62520" y="1824120"/>
            <a:ext cx="225360" cy="249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62520" y="2486160"/>
            <a:ext cx="225360" cy="249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73680" y="3138480"/>
            <a:ext cx="225360" cy="2491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61080" y="3800520"/>
            <a:ext cx="225360" cy="2491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871880" y="4457880"/>
            <a:ext cx="225720" cy="2491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59280" y="5119560"/>
            <a:ext cx="225360" cy="24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70440" y="5772240"/>
            <a:ext cx="225360" cy="249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35680" y="1816200"/>
            <a:ext cx="225360" cy="249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923080" y="2478240"/>
            <a:ext cx="225360" cy="249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934240" y="3130560"/>
            <a:ext cx="225360" cy="249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21280" y="3792600"/>
            <a:ext cx="225360" cy="249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932440" y="4449600"/>
            <a:ext cx="225360" cy="24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19840" y="5111640"/>
            <a:ext cx="225360" cy="24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31000" y="5764320"/>
            <a:ext cx="225360" cy="249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02360" y="1812960"/>
            <a:ext cx="225360" cy="249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89760" y="2475000"/>
            <a:ext cx="225360" cy="249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000920" y="3127320"/>
            <a:ext cx="225360" cy="249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88320" y="3789360"/>
            <a:ext cx="225360" cy="249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999120" y="4446720"/>
            <a:ext cx="225720" cy="249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86520" y="5108400"/>
            <a:ext cx="225360" cy="24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97680" y="5761080"/>
            <a:ext cx="225360" cy="249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819000" y="2006280"/>
            <a:ext cx="831960" cy="170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19000" y="3740040"/>
            <a:ext cx="831960" cy="2114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1080" y="2997360"/>
            <a:ext cx="94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ix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148520" y="1733400"/>
            <a:ext cx="1069920" cy="49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768720" y="1758960"/>
            <a:ext cx="1413000" cy="149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458120" y="121752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x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ghbor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73360" y="2941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0080"/>
                </a:solidFill>
                <a:latin typeface="Times New Roman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6519960" y="3159000"/>
            <a:ext cx="1365120" cy="10209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48760" y="4056120"/>
            <a:ext cx="10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Simi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Times New Roman"/>
              </a:rPr>
              <a:t>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49800" y="2933640"/>
            <a:ext cx="2303280" cy="1994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70080" y="4749840"/>
            <a:ext cx="2055600" cy="985680"/>
          </a:xfrm>
          <a:custGeom>
            <a:avLst/>
            <a:gdLst/>
            <a:ahLst/>
            <a:rect l="l" t="t" r="r" b="b"/>
            <a:pathLst>
              <a:path w="1295" h="621">
                <a:moveTo>
                  <a:pt x="0" y="621"/>
                </a:moveTo>
                <a:cubicBezTo>
                  <a:pt x="79" y="425"/>
                  <a:pt x="158" y="230"/>
                  <a:pt x="374" y="127"/>
                </a:cubicBezTo>
                <a:cubicBezTo>
                  <a:pt x="590" y="24"/>
                  <a:pt x="942" y="12"/>
                  <a:pt x="129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560" y="5527800"/>
            <a:ext cx="140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98760" y="6613560"/>
            <a:ext cx="394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From Khurram Hassan-Shafiqu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5415 Computer Vision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325F-E1D0-40F9-A87B-E6A9C81241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mum C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can be more than one minimum cut in a given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minimum cuts of a graph can be found in polynomial tim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700600" y="2438280"/>
            <a:ext cx="1195560" cy="1127160"/>
            <a:chOff x="5700600" y="2438280"/>
            <a:chExt cx="1195560" cy="1127160"/>
          </a:xfrm>
        </p:grpSpPr>
        <p:sp>
          <p:nvSpPr>
            <p:cNvPr id="262" name=""/>
            <p:cNvSpPr/>
            <p:nvPr/>
          </p:nvSpPr>
          <p:spPr>
            <a:xfrm>
              <a:off x="5700600" y="2438280"/>
              <a:ext cx="260640" cy="262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635880" y="3303360"/>
              <a:ext cx="260280" cy="262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708520" y="3301920"/>
              <a:ext cx="260640" cy="262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632640" y="2444760"/>
              <a:ext cx="260280" cy="261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5960880" y="2628720"/>
              <a:ext cx="70164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830560" y="2700360"/>
              <a:ext cx="1116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973840" y="2570040"/>
              <a:ext cx="65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756480" y="2700360"/>
              <a:ext cx="0" cy="59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961240" y="3448080"/>
              <a:ext cx="68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50080" y="2628720"/>
              <a:ext cx="712800" cy="78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498600" y="5618160"/>
            <a:ext cx="841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. Nagamochi, K. Nishimura and T. Ibaraki, “Computing all small cuts in an undirected network. SIAM J. Discrete Math. 10 (1997) 469-48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98760" y="6613560"/>
            <a:ext cx="394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From Khurram Hassan-Shafiqu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5415 Computer Vision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CEDA-E329-4CF0-B902-1E65129F885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the Minimal Cu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ctral Clustering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167652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8080" y="16002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198108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05120" y="1981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5248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2286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304812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8080" y="304812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335268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3886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"/>
          <p:cNvCxnSpPr>
            <a:stCxn id="286" idx="4"/>
            <a:endCxn id="287" idx="0"/>
          </p:cNvCxnSpPr>
          <p:nvPr/>
        </p:nvCxnSpPr>
        <p:spPr>
          <a:xfrm>
            <a:off x="3390480" y="1904760"/>
            <a:ext cx="1080" cy="114372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288" name=""/>
          <p:cNvCxnSpPr>
            <a:stCxn id="289" idx="6"/>
            <a:endCxn id="290" idx="2"/>
          </p:cNvCxnSpPr>
          <p:nvPr/>
        </p:nvCxnSpPr>
        <p:spPr>
          <a:xfrm>
            <a:off x="3886200" y="1714680"/>
            <a:ext cx="838800" cy="38160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291" name=""/>
          <p:cNvCxnSpPr>
            <a:stCxn id="289" idx="6"/>
            <a:endCxn id="292" idx="1"/>
          </p:cNvCxnSpPr>
          <p:nvPr/>
        </p:nvCxnSpPr>
        <p:spPr>
          <a:xfrm>
            <a:off x="3886200" y="1714320"/>
            <a:ext cx="720000" cy="68148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293" name=""/>
          <p:cNvCxnSpPr>
            <a:stCxn id="289" idx="6"/>
            <a:endCxn id="294" idx="1"/>
          </p:cNvCxnSpPr>
          <p:nvPr/>
        </p:nvCxnSpPr>
        <p:spPr>
          <a:xfrm>
            <a:off x="3886200" y="1714680"/>
            <a:ext cx="1100880" cy="60552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295" name=""/>
          <p:cNvCxnSpPr>
            <a:stCxn id="296" idx="4"/>
            <a:endCxn id="287" idx="0"/>
          </p:cNvCxnSpPr>
          <p:nvPr/>
        </p:nvCxnSpPr>
        <p:spPr>
          <a:xfrm flipH="1">
            <a:off x="3390120" y="2209320"/>
            <a:ext cx="229320" cy="83916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297" name=""/>
          <p:cNvCxnSpPr>
            <a:stCxn id="296" idx="4"/>
            <a:endCxn id="298" idx="0"/>
          </p:cNvCxnSpPr>
          <p:nvPr/>
        </p:nvCxnSpPr>
        <p:spPr>
          <a:xfrm>
            <a:off x="3619440" y="2209320"/>
            <a:ext cx="153360" cy="83916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299" name=""/>
          <p:cNvCxnSpPr>
            <a:stCxn id="296" idx="4"/>
            <a:endCxn id="300" idx="0"/>
          </p:cNvCxnSpPr>
          <p:nvPr/>
        </p:nvCxnSpPr>
        <p:spPr>
          <a:xfrm flipH="1">
            <a:off x="3542760" y="2209320"/>
            <a:ext cx="76680" cy="114372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301" name=""/>
          <p:cNvCxnSpPr>
            <a:stCxn id="286" idx="5"/>
            <a:endCxn id="298" idx="0"/>
          </p:cNvCxnSpPr>
          <p:nvPr/>
        </p:nvCxnSpPr>
        <p:spPr>
          <a:xfrm>
            <a:off x="3471840" y="1871640"/>
            <a:ext cx="300600" cy="117720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302" name=""/>
          <p:cNvCxnSpPr>
            <a:stCxn id="286" idx="4"/>
            <a:endCxn id="300" idx="0"/>
          </p:cNvCxnSpPr>
          <p:nvPr/>
        </p:nvCxnSpPr>
        <p:spPr>
          <a:xfrm>
            <a:off x="3390840" y="1904760"/>
            <a:ext cx="153360" cy="144828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303" name=""/>
          <p:cNvCxnSpPr>
            <a:stCxn id="286" idx="6"/>
            <a:endCxn id="290" idx="2"/>
          </p:cNvCxnSpPr>
          <p:nvPr/>
        </p:nvCxnSpPr>
        <p:spPr>
          <a:xfrm>
            <a:off x="3505320" y="1790280"/>
            <a:ext cx="1219680" cy="30564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304" name=""/>
          <p:cNvCxnSpPr>
            <a:stCxn id="286" idx="6"/>
            <a:endCxn id="292" idx="1"/>
          </p:cNvCxnSpPr>
          <p:nvPr/>
        </p:nvCxnSpPr>
        <p:spPr>
          <a:xfrm>
            <a:off x="3505320" y="1790640"/>
            <a:ext cx="1100880" cy="60552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305" name=""/>
          <p:cNvCxnSpPr>
            <a:stCxn id="286" idx="6"/>
            <a:endCxn id="294" idx="1"/>
          </p:cNvCxnSpPr>
          <p:nvPr/>
        </p:nvCxnSpPr>
        <p:spPr>
          <a:xfrm>
            <a:off x="3505320" y="1790280"/>
            <a:ext cx="1481760" cy="52920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306" name=""/>
          <p:cNvCxnSpPr>
            <a:stCxn id="296" idx="6"/>
            <a:endCxn id="292" idx="1"/>
          </p:cNvCxnSpPr>
          <p:nvPr/>
        </p:nvCxnSpPr>
        <p:spPr>
          <a:xfrm>
            <a:off x="3733560" y="2095200"/>
            <a:ext cx="872280" cy="30060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307" name=""/>
          <p:cNvCxnSpPr>
            <a:stCxn id="296" idx="6"/>
            <a:endCxn id="294" idx="1"/>
          </p:cNvCxnSpPr>
          <p:nvPr/>
        </p:nvCxnSpPr>
        <p:spPr>
          <a:xfrm>
            <a:off x="3733560" y="2095560"/>
            <a:ext cx="1253160" cy="22464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308" name=""/>
          <p:cNvCxnSpPr>
            <a:stCxn id="296" idx="6"/>
            <a:endCxn id="290" idx="2"/>
          </p:cNvCxnSpPr>
          <p:nvPr/>
        </p:nvCxnSpPr>
        <p:spPr>
          <a:xfrm>
            <a:off x="3733560" y="2095200"/>
            <a:ext cx="991080" cy="108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309" name=""/>
          <p:cNvCxnSpPr>
            <a:stCxn id="289" idx="4"/>
            <a:endCxn id="298" idx="0"/>
          </p:cNvCxnSpPr>
          <p:nvPr/>
        </p:nvCxnSpPr>
        <p:spPr>
          <a:xfrm>
            <a:off x="3771720" y="1828440"/>
            <a:ext cx="1080" cy="122004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310" name=""/>
          <p:cNvCxnSpPr>
            <a:stCxn id="289" idx="4"/>
            <a:endCxn id="287" idx="0"/>
          </p:cNvCxnSpPr>
          <p:nvPr/>
        </p:nvCxnSpPr>
        <p:spPr>
          <a:xfrm flipH="1">
            <a:off x="3390120" y="1828440"/>
            <a:ext cx="381960" cy="122004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311" name=""/>
          <p:cNvCxnSpPr>
            <a:stCxn id="289" idx="4"/>
            <a:endCxn id="300" idx="0"/>
          </p:cNvCxnSpPr>
          <p:nvPr/>
        </p:nvCxnSpPr>
        <p:spPr>
          <a:xfrm flipH="1">
            <a:off x="3542760" y="1828440"/>
            <a:ext cx="229320" cy="152460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312" name=""/>
          <p:cNvCxnSpPr>
            <a:stCxn id="298" idx="7"/>
            <a:endCxn id="292" idx="3"/>
          </p:cNvCxnSpPr>
          <p:nvPr/>
        </p:nvCxnSpPr>
        <p:spPr>
          <a:xfrm flipV="1">
            <a:off x="3852360" y="2557080"/>
            <a:ext cx="753480" cy="52416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313" name=""/>
          <p:cNvCxnSpPr>
            <a:stCxn id="298" idx="7"/>
            <a:endCxn id="294" idx="3"/>
          </p:cNvCxnSpPr>
          <p:nvPr/>
        </p:nvCxnSpPr>
        <p:spPr>
          <a:xfrm flipV="1">
            <a:off x="3852360" y="2480400"/>
            <a:ext cx="1134360" cy="60084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314" name=""/>
          <p:cNvCxnSpPr>
            <a:stCxn id="298" idx="7"/>
            <a:endCxn id="290" idx="3"/>
          </p:cNvCxnSpPr>
          <p:nvPr/>
        </p:nvCxnSpPr>
        <p:spPr>
          <a:xfrm flipV="1">
            <a:off x="3852720" y="2175840"/>
            <a:ext cx="905760" cy="90540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315" name=""/>
          <p:cNvCxnSpPr>
            <a:stCxn id="300" idx="7"/>
            <a:endCxn id="294" idx="3"/>
          </p:cNvCxnSpPr>
          <p:nvPr/>
        </p:nvCxnSpPr>
        <p:spPr>
          <a:xfrm flipV="1">
            <a:off x="3624120" y="2480760"/>
            <a:ext cx="1362960" cy="90576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316" name=""/>
          <p:cNvCxnSpPr>
            <a:stCxn id="300" idx="7"/>
            <a:endCxn id="292" idx="3"/>
          </p:cNvCxnSpPr>
          <p:nvPr/>
        </p:nvCxnSpPr>
        <p:spPr>
          <a:xfrm flipV="1">
            <a:off x="3624120" y="2557080"/>
            <a:ext cx="982080" cy="82944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317" name=""/>
          <p:cNvCxnSpPr>
            <a:stCxn id="300" idx="7"/>
            <a:endCxn id="290" idx="3"/>
          </p:cNvCxnSpPr>
          <p:nvPr/>
        </p:nvCxnSpPr>
        <p:spPr>
          <a:xfrm flipV="1">
            <a:off x="3623760" y="2176200"/>
            <a:ext cx="1134360" cy="121032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318" name=""/>
          <p:cNvCxnSpPr>
            <a:stCxn id="287" idx="7"/>
            <a:endCxn id="292" idx="3"/>
          </p:cNvCxnSpPr>
          <p:nvPr/>
        </p:nvCxnSpPr>
        <p:spPr>
          <a:xfrm flipV="1">
            <a:off x="3471480" y="2557080"/>
            <a:ext cx="1134360" cy="52416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319" name=""/>
          <p:cNvCxnSpPr>
            <a:stCxn id="287" idx="7"/>
            <a:endCxn id="294" idx="3"/>
          </p:cNvCxnSpPr>
          <p:nvPr/>
        </p:nvCxnSpPr>
        <p:spPr>
          <a:xfrm flipV="1">
            <a:off x="3471480" y="2480400"/>
            <a:ext cx="1515240" cy="60084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320" name=""/>
          <p:cNvCxnSpPr>
            <a:stCxn id="287" idx="7"/>
            <a:endCxn id="290" idx="3"/>
          </p:cNvCxnSpPr>
          <p:nvPr/>
        </p:nvCxnSpPr>
        <p:spPr>
          <a:xfrm flipV="1">
            <a:off x="3471840" y="2175840"/>
            <a:ext cx="1286640" cy="90540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321" name=""/>
          <p:cNvCxnSpPr>
            <a:stCxn id="287" idx="6"/>
            <a:endCxn id="298" idx="2"/>
          </p:cNvCxnSpPr>
          <p:nvPr/>
        </p:nvCxnSpPr>
        <p:spPr>
          <a:xfrm>
            <a:off x="3504960" y="3161880"/>
            <a:ext cx="15300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8" idx="3"/>
            <a:endCxn id="300" idx="7"/>
          </p:cNvCxnSpPr>
          <p:nvPr/>
        </p:nvCxnSpPr>
        <p:spPr>
          <a:xfrm flipH="1">
            <a:off x="3623760" y="3242880"/>
            <a:ext cx="67680" cy="1436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287" idx="5"/>
            <a:endCxn id="300" idx="0"/>
          </p:cNvCxnSpPr>
          <p:nvPr/>
        </p:nvCxnSpPr>
        <p:spPr>
          <a:xfrm>
            <a:off x="3471480" y="3243240"/>
            <a:ext cx="72360" cy="1101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7" name=""/>
          <p:cNvSpPr/>
          <p:nvPr/>
        </p:nvSpPr>
        <p:spPr>
          <a:xfrm>
            <a:off x="3276720" y="304812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57600" y="304812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29000" y="335268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"/>
          <p:cNvCxnSpPr>
            <a:stCxn id="286" idx="5"/>
            <a:endCxn id="296" idx="1"/>
          </p:cNvCxnSpPr>
          <p:nvPr/>
        </p:nvCxnSpPr>
        <p:spPr>
          <a:xfrm>
            <a:off x="3471480" y="1871280"/>
            <a:ext cx="67320" cy="1436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296" idx="7"/>
            <a:endCxn id="289" idx="4"/>
          </p:cNvCxnSpPr>
          <p:nvPr/>
        </p:nvCxnSpPr>
        <p:spPr>
          <a:xfrm flipV="1">
            <a:off x="3700080" y="1828440"/>
            <a:ext cx="72360" cy="1864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289" idx="2"/>
            <a:endCxn id="286" idx="6"/>
          </p:cNvCxnSpPr>
          <p:nvPr/>
        </p:nvCxnSpPr>
        <p:spPr>
          <a:xfrm flipH="1">
            <a:off x="3504600" y="1714320"/>
            <a:ext cx="153000" cy="766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3276720" y="167652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57600" y="16002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05320" y="198108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"/>
          <p:cNvCxnSpPr>
            <a:stCxn id="290" idx="4"/>
            <a:endCxn id="292" idx="7"/>
          </p:cNvCxnSpPr>
          <p:nvPr/>
        </p:nvCxnSpPr>
        <p:spPr>
          <a:xfrm flipH="1">
            <a:off x="4766400" y="2209680"/>
            <a:ext cx="72360" cy="1864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290" idx="5"/>
            <a:endCxn id="294" idx="1"/>
          </p:cNvCxnSpPr>
          <p:nvPr/>
        </p:nvCxnSpPr>
        <p:spPr>
          <a:xfrm>
            <a:off x="4919400" y="2176200"/>
            <a:ext cx="67320" cy="1436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294" idx="2"/>
            <a:endCxn id="292" idx="6"/>
          </p:cNvCxnSpPr>
          <p:nvPr/>
        </p:nvCxnSpPr>
        <p:spPr>
          <a:xfrm flipH="1">
            <a:off x="4799880" y="2400120"/>
            <a:ext cx="153000" cy="766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0" name=""/>
          <p:cNvSpPr/>
          <p:nvPr/>
        </p:nvSpPr>
        <p:spPr>
          <a:xfrm>
            <a:off x="4724280" y="1981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2286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48120" y="3886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imila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200400" y="4572000"/>
          <a:ext cx="1833480" cy="180036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2971800" y="4600440"/>
            <a:ext cx="135000" cy="135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971800" y="480204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971800" y="5005440"/>
            <a:ext cx="135000" cy="135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971800" y="520704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5410080"/>
            <a:ext cx="135000" cy="1335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971800" y="5611680"/>
            <a:ext cx="135000" cy="135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71800" y="581328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971800" y="6016680"/>
            <a:ext cx="135000" cy="135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6218280"/>
            <a:ext cx="135000" cy="135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3241440" y="4344480"/>
            <a:ext cx="135000" cy="134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16200000">
            <a:off x="3443400" y="434448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3646440" y="4344480"/>
            <a:ext cx="135000" cy="135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6200000">
            <a:off x="3848040" y="434448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4051800" y="4347000"/>
            <a:ext cx="135000" cy="1332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16200000">
            <a:off x="4252680" y="4344480"/>
            <a:ext cx="135000" cy="134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16200000">
            <a:off x="4454640" y="434448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6200000">
            <a:off x="4657680" y="4344480"/>
            <a:ext cx="135000" cy="135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16200000">
            <a:off x="4859280" y="4344480"/>
            <a:ext cx="135000" cy="135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8672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Block-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6400800" y="4568760"/>
          <a:ext cx="1833480" cy="180036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pSp>
        <p:nvGrpSpPr>
          <p:cNvPr id="352" name=""/>
          <p:cNvGrpSpPr/>
          <p:nvPr/>
        </p:nvGrpSpPr>
        <p:grpSpPr>
          <a:xfrm>
            <a:off x="6172200" y="4597560"/>
            <a:ext cx="135000" cy="1752120"/>
            <a:chOff x="6172200" y="4597560"/>
            <a:chExt cx="135000" cy="1752120"/>
          </a:xfrm>
        </p:grpSpPr>
        <p:sp>
          <p:nvSpPr>
            <p:cNvPr id="353" name=""/>
            <p:cNvSpPr/>
            <p:nvPr/>
          </p:nvSpPr>
          <p:spPr>
            <a:xfrm>
              <a:off x="6172200" y="4597560"/>
              <a:ext cx="135000" cy="1346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72200" y="4799520"/>
              <a:ext cx="135000" cy="1346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72200" y="5001840"/>
              <a:ext cx="135000" cy="1346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72200" y="5204160"/>
              <a:ext cx="135000" cy="134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72200" y="5406120"/>
              <a:ext cx="135000" cy="134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172200" y="5608440"/>
              <a:ext cx="135000" cy="134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72200" y="5810760"/>
              <a:ext cx="135000" cy="134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172200" y="6013080"/>
              <a:ext cx="135000" cy="134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72200" y="6215040"/>
              <a:ext cx="135000" cy="134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6443640" y="4343040"/>
            <a:ext cx="1752120" cy="135000"/>
            <a:chOff x="6443640" y="4343040"/>
            <a:chExt cx="1752120" cy="135000"/>
          </a:xfrm>
        </p:grpSpPr>
        <p:sp>
          <p:nvSpPr>
            <p:cNvPr id="363" name=""/>
            <p:cNvSpPr/>
            <p:nvPr/>
          </p:nvSpPr>
          <p:spPr>
            <a:xfrm rot="16200000">
              <a:off x="6443280" y="4343040"/>
              <a:ext cx="135000" cy="1346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6200000">
              <a:off x="6645240" y="4343040"/>
              <a:ext cx="135000" cy="1346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6200000">
              <a:off x="6847560" y="4343040"/>
              <a:ext cx="135000" cy="1346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16200000">
              <a:off x="7049880" y="4343040"/>
              <a:ext cx="135000" cy="134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6200000">
              <a:off x="7251840" y="4343040"/>
              <a:ext cx="135000" cy="134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6200000">
              <a:off x="7454160" y="4343040"/>
              <a:ext cx="135000" cy="134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16200000">
              <a:off x="7656480" y="4343040"/>
              <a:ext cx="135000" cy="134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6200000">
              <a:off x="7858800" y="4343040"/>
              <a:ext cx="135000" cy="134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6200000">
              <a:off x="8060760" y="4343040"/>
              <a:ext cx="135000" cy="1346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72" name=""/>
          <p:cNvCxnSpPr>
            <a:stCxn id="373" idx="6"/>
            <a:endCxn id="374" idx="2"/>
          </p:cNvCxnSpPr>
          <p:nvPr/>
        </p:nvCxnSpPr>
        <p:spPr>
          <a:xfrm>
            <a:off x="6400440" y="3161880"/>
            <a:ext cx="15300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74" idx="3"/>
            <a:endCxn id="376" idx="7"/>
          </p:cNvCxnSpPr>
          <p:nvPr/>
        </p:nvCxnSpPr>
        <p:spPr>
          <a:xfrm flipH="1">
            <a:off x="6519240" y="3242880"/>
            <a:ext cx="67320" cy="1436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73" idx="5"/>
            <a:endCxn id="376" idx="0"/>
          </p:cNvCxnSpPr>
          <p:nvPr/>
        </p:nvCxnSpPr>
        <p:spPr>
          <a:xfrm>
            <a:off x="6366960" y="3243240"/>
            <a:ext cx="72360" cy="1101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3" name=""/>
          <p:cNvSpPr/>
          <p:nvPr/>
        </p:nvSpPr>
        <p:spPr>
          <a:xfrm>
            <a:off x="6172200" y="304812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553080" y="304812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3352680"/>
            <a:ext cx="228600" cy="2286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9" idx="5"/>
            <a:endCxn id="380" idx="1"/>
          </p:cNvCxnSpPr>
          <p:nvPr/>
        </p:nvCxnSpPr>
        <p:spPr>
          <a:xfrm>
            <a:off x="6367320" y="1871280"/>
            <a:ext cx="67680" cy="1436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1" name=""/>
          <p:cNvCxnSpPr>
            <a:stCxn id="380" idx="7"/>
            <a:endCxn id="382" idx="4"/>
          </p:cNvCxnSpPr>
          <p:nvPr/>
        </p:nvCxnSpPr>
        <p:spPr>
          <a:xfrm flipV="1">
            <a:off x="6595560" y="1828440"/>
            <a:ext cx="72360" cy="1864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82" idx="2"/>
            <a:endCxn id="379" idx="6"/>
          </p:cNvCxnSpPr>
          <p:nvPr/>
        </p:nvCxnSpPr>
        <p:spPr>
          <a:xfrm flipH="1">
            <a:off x="6400080" y="1714320"/>
            <a:ext cx="153000" cy="766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9" name=""/>
          <p:cNvSpPr/>
          <p:nvPr/>
        </p:nvSpPr>
        <p:spPr>
          <a:xfrm>
            <a:off x="6172200" y="167652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53080" y="160020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400800" y="1981080"/>
            <a:ext cx="228600" cy="2286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"/>
          <p:cNvCxnSpPr>
            <a:stCxn id="385" idx="4"/>
            <a:endCxn id="386" idx="7"/>
          </p:cNvCxnSpPr>
          <p:nvPr/>
        </p:nvCxnSpPr>
        <p:spPr>
          <a:xfrm flipH="1">
            <a:off x="7662600" y="2209680"/>
            <a:ext cx="72000" cy="1864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85" idx="5"/>
            <a:endCxn id="388" idx="1"/>
          </p:cNvCxnSpPr>
          <p:nvPr/>
        </p:nvCxnSpPr>
        <p:spPr>
          <a:xfrm>
            <a:off x="7814880" y="2176200"/>
            <a:ext cx="67320" cy="1436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88" idx="2"/>
            <a:endCxn id="386" idx="6"/>
          </p:cNvCxnSpPr>
          <p:nvPr/>
        </p:nvCxnSpPr>
        <p:spPr>
          <a:xfrm flipH="1">
            <a:off x="7695720" y="2400120"/>
            <a:ext cx="153360" cy="766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7620120" y="1981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467480" y="2362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848720" y="2286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90720" y="6553080"/>
            <a:ext cx="81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Slides from Dan Klein, Sep Kamvar, Chris Manning, Natural Language Group Stanford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0867-4AB8-4C43-B89B-6BE0D18A3F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genvectors and Blo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 matrices have block eigenve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-block matrices have near-block eigenvectors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[Ng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et al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., NIPS 0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457200" y="2289240"/>
          <a:ext cx="1828800" cy="14605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4" name=""/>
          <p:cNvSpPr/>
          <p:nvPr/>
        </p:nvSpPr>
        <p:spPr>
          <a:xfrm>
            <a:off x="2666880" y="2454120"/>
            <a:ext cx="2057400" cy="1143000"/>
          </a:xfrm>
          <a:prstGeom prst="rightArrow">
            <a:avLst>
              <a:gd name="adj1" fmla="val 50000"/>
              <a:gd name="adj2" fmla="val 4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eigens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4952880" y="2289240"/>
          <a:ext cx="609840" cy="146052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6019920" y="2289240"/>
          <a:ext cx="609480" cy="146052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7" name=""/>
          <p:cNvSpPr/>
          <p:nvPr/>
        </p:nvSpPr>
        <p:spPr>
          <a:xfrm>
            <a:off x="4724280" y="184464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867280" y="184464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34320" y="182880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924680" y="184464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457200" y="4863960"/>
          <a:ext cx="1828800" cy="14605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2</a:t>
                      </a: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"/>
          <p:cNvSpPr/>
          <p:nvPr/>
        </p:nvSpPr>
        <p:spPr>
          <a:xfrm>
            <a:off x="2666880" y="5029200"/>
            <a:ext cx="2057400" cy="1143000"/>
          </a:xfrm>
          <a:prstGeom prst="rightArrow">
            <a:avLst>
              <a:gd name="adj1" fmla="val 50000"/>
              <a:gd name="adj2" fmla="val 4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eigensol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952880" y="4863960"/>
          <a:ext cx="609840" cy="146052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5943600" y="4863960"/>
          <a:ext cx="609480" cy="146052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5f5f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"/>
          <p:cNvSpPr/>
          <p:nvPr/>
        </p:nvSpPr>
        <p:spPr>
          <a:xfrm>
            <a:off x="4572000" y="4419720"/>
            <a:ext cx="1066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2.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715000" y="4419720"/>
            <a:ext cx="1066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2.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0" y="4403880"/>
            <a:ext cx="1143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-0.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924680" y="4419720"/>
            <a:ext cx="1143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-0.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720" y="6553080"/>
            <a:ext cx="81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Slides from Dan Klein, Sep Kamvar, Chris Manning, Natural Language Group Stanford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C714-7D51-429D-B0A4-A8B272B7D38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al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put items into blocks by eigenve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s clear regardless of row ord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457200" y="2133720"/>
          <a:ext cx="1828800" cy="14605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2</a:t>
                      </a: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3505320" y="2120760"/>
          <a:ext cx="609480" cy="146052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95680" y="2120760"/>
          <a:ext cx="609840" cy="146052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"/>
          <p:cNvSpPr/>
          <p:nvPr/>
        </p:nvSpPr>
        <p:spPr>
          <a:xfrm>
            <a:off x="2514600" y="2514600"/>
            <a:ext cx="762120" cy="685800"/>
          </a:xfrm>
          <a:prstGeom prst="rightArrow">
            <a:avLst>
              <a:gd name="adj1" fmla="val 50000"/>
              <a:gd name="adj2" fmla="val 4005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562720" y="2514600"/>
            <a:ext cx="761760" cy="685800"/>
          </a:xfrm>
          <a:prstGeom prst="rightArrow">
            <a:avLst>
              <a:gd name="adj1" fmla="val 50000"/>
              <a:gd name="adj2" fmla="val 40034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10280" y="21337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6476760" y="3124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2057400"/>
            <a:ext cx="1905120" cy="3808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352680" y="2438280"/>
            <a:ext cx="1905120" cy="38124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352680" y="2819520"/>
            <a:ext cx="1905120" cy="380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352680" y="3200400"/>
            <a:ext cx="1905120" cy="380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34320" y="2209680"/>
            <a:ext cx="15228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858000" y="2286000"/>
            <a:ext cx="152280" cy="152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848720" y="3048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772400" y="2971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781680" y="1600200"/>
            <a:ext cx="60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001000" y="287964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64280" y="2054160"/>
            <a:ext cx="1670040" cy="169920"/>
          </a:xfrm>
          <a:custGeom>
            <a:avLst/>
            <a:gdLst/>
            <a:ahLst/>
            <a:rect l="l" t="t" r="r" b="b"/>
            <a:pathLst>
              <a:path w="1052" h="107">
                <a:moveTo>
                  <a:pt x="0" y="107"/>
                </a:moveTo>
                <a:cubicBezTo>
                  <a:pt x="79" y="88"/>
                  <a:pt x="301" y="4"/>
                  <a:pt x="476" y="2"/>
                </a:cubicBezTo>
                <a:cubicBezTo>
                  <a:pt x="651" y="0"/>
                  <a:pt x="852" y="46"/>
                  <a:pt x="1052" y="98"/>
                </a:cubicBezTo>
              </a:path>
            </a:pathLst>
          </a:custGeom>
          <a:noFill/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257800" y="2324160"/>
            <a:ext cx="1523880" cy="266760"/>
          </a:xfrm>
          <a:custGeom>
            <a:avLst/>
            <a:gdLst/>
            <a:ahLst/>
            <a:rect l="l" t="t" r="r" b="b"/>
            <a:pathLst>
              <a:path w="960" h="168">
                <a:moveTo>
                  <a:pt x="0" y="168"/>
                </a:moveTo>
                <a:cubicBezTo>
                  <a:pt x="136" y="108"/>
                  <a:pt x="272" y="48"/>
                  <a:pt x="432" y="24"/>
                </a:cubicBezTo>
                <a:cubicBezTo>
                  <a:pt x="592" y="0"/>
                  <a:pt x="776" y="12"/>
                  <a:pt x="960" y="24"/>
                </a:cubicBezTo>
              </a:path>
            </a:pathLst>
          </a:custGeom>
          <a:noFill/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257800" y="3048120"/>
            <a:ext cx="2514600" cy="682560"/>
          </a:xfrm>
          <a:custGeom>
            <a:avLst/>
            <a:gdLst/>
            <a:ahLst/>
            <a:rect l="l" t="t" r="r" b="b"/>
            <a:pathLst>
              <a:path w="1584" h="430">
                <a:moveTo>
                  <a:pt x="0" y="0"/>
                </a:moveTo>
                <a:cubicBezTo>
                  <a:pt x="140" y="57"/>
                  <a:pt x="632" y="280"/>
                  <a:pt x="842" y="345"/>
                </a:cubicBezTo>
                <a:cubicBezTo>
                  <a:pt x="1052" y="410"/>
                  <a:pt x="1137" y="430"/>
                  <a:pt x="1261" y="388"/>
                </a:cubicBezTo>
                <a:cubicBezTo>
                  <a:pt x="1385" y="346"/>
                  <a:pt x="1517" y="157"/>
                  <a:pt x="1584" y="96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64280" y="3276720"/>
            <a:ext cx="2660400" cy="655560"/>
          </a:xfrm>
          <a:custGeom>
            <a:avLst/>
            <a:gdLst/>
            <a:ahLst/>
            <a:rect l="l" t="t" r="r" b="b"/>
            <a:pathLst>
              <a:path w="1676" h="413">
                <a:moveTo>
                  <a:pt x="0" y="70"/>
                </a:moveTo>
                <a:cubicBezTo>
                  <a:pt x="199" y="125"/>
                  <a:pt x="917" y="413"/>
                  <a:pt x="1196" y="401"/>
                </a:cubicBezTo>
                <a:cubicBezTo>
                  <a:pt x="1475" y="389"/>
                  <a:pt x="1576" y="84"/>
                  <a:pt x="167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505320" y="356544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495680" y="3565440"/>
            <a:ext cx="60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457200" y="4632480"/>
          <a:ext cx="1828800" cy="146052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2</a:t>
                      </a: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3505320" y="4619520"/>
          <a:ext cx="609480" cy="146052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4495680" y="4619520"/>
          <a:ext cx="609840" cy="146052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8" name=""/>
          <p:cNvSpPr/>
          <p:nvPr/>
        </p:nvSpPr>
        <p:spPr>
          <a:xfrm>
            <a:off x="2514600" y="5013360"/>
            <a:ext cx="762120" cy="685800"/>
          </a:xfrm>
          <a:prstGeom prst="rightArrow">
            <a:avLst>
              <a:gd name="adj1" fmla="val 50000"/>
              <a:gd name="adj2" fmla="val 40052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562720" y="5013360"/>
            <a:ext cx="761760" cy="685800"/>
          </a:xfrm>
          <a:prstGeom prst="rightArrow">
            <a:avLst>
              <a:gd name="adj1" fmla="val 50000"/>
              <a:gd name="adj2" fmla="val 40034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010280" y="463248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6476760" y="56228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352680" y="4556160"/>
            <a:ext cx="1905120" cy="3808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352680" y="4937040"/>
            <a:ext cx="1905120" cy="381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5318280"/>
            <a:ext cx="1905120" cy="3808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352680" y="5699160"/>
            <a:ext cx="1905120" cy="380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34320" y="4708440"/>
            <a:ext cx="152280" cy="152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858000" y="4784760"/>
            <a:ext cx="152280" cy="1522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848720" y="554688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772400" y="54705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781680" y="4175280"/>
            <a:ext cx="60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001000" y="537840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264280" y="4552920"/>
            <a:ext cx="1670040" cy="169920"/>
          </a:xfrm>
          <a:custGeom>
            <a:avLst/>
            <a:gdLst/>
            <a:ahLst/>
            <a:rect l="l" t="t" r="r" b="b"/>
            <a:pathLst>
              <a:path w="1052" h="107">
                <a:moveTo>
                  <a:pt x="0" y="107"/>
                </a:moveTo>
                <a:cubicBezTo>
                  <a:pt x="79" y="88"/>
                  <a:pt x="301" y="4"/>
                  <a:pt x="476" y="2"/>
                </a:cubicBezTo>
                <a:cubicBezTo>
                  <a:pt x="651" y="0"/>
                  <a:pt x="852" y="46"/>
                  <a:pt x="1052" y="98"/>
                </a:cubicBezTo>
              </a:path>
            </a:pathLst>
          </a:custGeom>
          <a:noFill/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237280" y="4721400"/>
            <a:ext cx="1544400" cy="738000"/>
          </a:xfrm>
          <a:custGeom>
            <a:avLst/>
            <a:gdLst/>
            <a:ahLst/>
            <a:rect l="l" t="t" r="r" b="b"/>
            <a:pathLst>
              <a:path w="973" h="465">
                <a:moveTo>
                  <a:pt x="0" y="465"/>
                </a:moveTo>
                <a:cubicBezTo>
                  <a:pt x="57" y="398"/>
                  <a:pt x="178" y="126"/>
                  <a:pt x="340" y="63"/>
                </a:cubicBezTo>
                <a:cubicBezTo>
                  <a:pt x="502" y="0"/>
                  <a:pt x="841" y="83"/>
                  <a:pt x="973" y="88"/>
                </a:cubicBezTo>
              </a:path>
            </a:pathLst>
          </a:custGeom>
          <a:noFill/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237280" y="5167440"/>
            <a:ext cx="2535120" cy="1062000"/>
          </a:xfrm>
          <a:custGeom>
            <a:avLst/>
            <a:gdLst/>
            <a:ahLst/>
            <a:rect l="l" t="t" r="r" b="b"/>
            <a:pathLst>
              <a:path w="1597" h="669">
                <a:moveTo>
                  <a:pt x="0" y="0"/>
                </a:moveTo>
                <a:cubicBezTo>
                  <a:pt x="39" y="54"/>
                  <a:pt x="93" y="226"/>
                  <a:pt x="236" y="323"/>
                </a:cubicBezTo>
                <a:cubicBezTo>
                  <a:pt x="379" y="420"/>
                  <a:pt x="682" y="533"/>
                  <a:pt x="855" y="584"/>
                </a:cubicBezTo>
                <a:cubicBezTo>
                  <a:pt x="1028" y="635"/>
                  <a:pt x="1150" y="669"/>
                  <a:pt x="1274" y="627"/>
                </a:cubicBezTo>
                <a:cubicBezTo>
                  <a:pt x="1398" y="585"/>
                  <a:pt x="1530" y="396"/>
                  <a:pt x="1597" y="33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264280" y="5775480"/>
            <a:ext cx="2660400" cy="655560"/>
          </a:xfrm>
          <a:custGeom>
            <a:avLst/>
            <a:gdLst/>
            <a:ahLst/>
            <a:rect l="l" t="t" r="r" b="b"/>
            <a:pathLst>
              <a:path w="1676" h="413">
                <a:moveTo>
                  <a:pt x="0" y="70"/>
                </a:moveTo>
                <a:cubicBezTo>
                  <a:pt x="199" y="125"/>
                  <a:pt x="917" y="413"/>
                  <a:pt x="1196" y="401"/>
                </a:cubicBezTo>
                <a:cubicBezTo>
                  <a:pt x="1475" y="389"/>
                  <a:pt x="1576" y="84"/>
                  <a:pt x="167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505320" y="6095880"/>
            <a:ext cx="609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495680" y="6095880"/>
            <a:ext cx="60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6553080"/>
            <a:ext cx="81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Slides from Dan Klein, Sep Kamvar, Chris Manning, Natural Language Group Stanford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F5C1-A526-4039-8FF0-C56D30FB10F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ectral Advan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 advantage of spectral clustering is the spectral space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1219320" y="2819520"/>
            <a:ext cx="1523880" cy="1447560"/>
            <a:chOff x="1219320" y="2819520"/>
            <a:chExt cx="1523880" cy="1447560"/>
          </a:xfrm>
        </p:grpSpPr>
        <p:cxnSp>
          <p:nvCxnSpPr>
            <p:cNvPr id="462" name=""/>
            <p:cNvCxnSpPr>
              <a:stCxn id="463" idx="4"/>
              <a:endCxn id="464" idx="0"/>
            </p:cNvCxnSpPr>
            <p:nvPr/>
          </p:nvCxnSpPr>
          <p:spPr>
            <a:xfrm>
              <a:off x="1310040" y="3042000"/>
              <a:ext cx="1080" cy="835920"/>
            </a:xfrm>
            <a:prstGeom prst="straightConnector1">
              <a:avLst/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465" name=""/>
            <p:cNvCxnSpPr>
              <a:stCxn id="466" idx="6"/>
              <a:endCxn id="467" idx="2"/>
            </p:cNvCxnSpPr>
            <p:nvPr/>
          </p:nvCxnSpPr>
          <p:spPr>
            <a:xfrm>
              <a:off x="1706760" y="2902680"/>
              <a:ext cx="670680" cy="279000"/>
            </a:xfrm>
            <a:prstGeom prst="straightConnector1">
              <a:avLst/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468" name=""/>
            <p:cNvCxnSpPr>
              <a:stCxn id="466" idx="6"/>
              <a:endCxn id="469" idx="1"/>
            </p:cNvCxnSpPr>
            <p:nvPr/>
          </p:nvCxnSpPr>
          <p:spPr>
            <a:xfrm>
              <a:off x="1706760" y="2902680"/>
              <a:ext cx="576000" cy="497880"/>
            </a:xfrm>
            <a:prstGeom prst="straightConnector1">
              <a:avLst/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470" name=""/>
            <p:cNvCxnSpPr>
              <a:stCxn id="466" idx="6"/>
              <a:endCxn id="471" idx="1"/>
            </p:cNvCxnSpPr>
            <p:nvPr/>
          </p:nvCxnSpPr>
          <p:spPr>
            <a:xfrm>
              <a:off x="1706400" y="2902680"/>
              <a:ext cx="880920" cy="442440"/>
            </a:xfrm>
            <a:prstGeom prst="straightConnector1">
              <a:avLst/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472" name=""/>
            <p:cNvCxnSpPr>
              <a:stCxn id="473" idx="4"/>
              <a:endCxn id="464" idx="0"/>
            </p:cNvCxnSpPr>
            <p:nvPr/>
          </p:nvCxnSpPr>
          <p:spPr>
            <a:xfrm flipH="1">
              <a:off x="1310040" y="3264480"/>
              <a:ext cx="183600" cy="613080"/>
            </a:xfrm>
            <a:prstGeom prst="straightConnector1">
              <a:avLst/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474" name=""/>
            <p:cNvCxnSpPr>
              <a:stCxn id="473" idx="4"/>
              <a:endCxn id="475" idx="0"/>
            </p:cNvCxnSpPr>
            <p:nvPr/>
          </p:nvCxnSpPr>
          <p:spPr>
            <a:xfrm>
              <a:off x="1492920" y="3264480"/>
              <a:ext cx="122400" cy="613080"/>
            </a:xfrm>
            <a:prstGeom prst="straightConnector1">
              <a:avLst/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476" name=""/>
            <p:cNvCxnSpPr>
              <a:stCxn id="473" idx="4"/>
              <a:endCxn id="477" idx="0"/>
            </p:cNvCxnSpPr>
            <p:nvPr/>
          </p:nvCxnSpPr>
          <p:spPr>
            <a:xfrm flipH="1">
              <a:off x="1432080" y="3264840"/>
              <a:ext cx="61200" cy="835920"/>
            </a:xfrm>
            <a:prstGeom prst="straightConnector1">
              <a:avLst/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478" name=""/>
            <p:cNvCxnSpPr>
              <a:stCxn id="463" idx="5"/>
              <a:endCxn id="475" idx="0"/>
            </p:cNvCxnSpPr>
            <p:nvPr/>
          </p:nvCxnSpPr>
          <p:spPr>
            <a:xfrm>
              <a:off x="1374840" y="3017520"/>
              <a:ext cx="240840" cy="860400"/>
            </a:xfrm>
            <a:prstGeom prst="straightConnector1">
              <a:avLst/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479" name=""/>
            <p:cNvCxnSpPr>
              <a:stCxn id="463" idx="4"/>
              <a:endCxn id="477" idx="0"/>
            </p:cNvCxnSpPr>
            <p:nvPr/>
          </p:nvCxnSpPr>
          <p:spPr>
            <a:xfrm>
              <a:off x="1310040" y="3042000"/>
              <a:ext cx="122400" cy="1058400"/>
            </a:xfrm>
            <a:prstGeom prst="straightConnector1">
              <a:avLst/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480" name=""/>
            <p:cNvCxnSpPr>
              <a:stCxn id="463" idx="6"/>
              <a:endCxn id="467" idx="2"/>
            </p:cNvCxnSpPr>
            <p:nvPr/>
          </p:nvCxnSpPr>
          <p:spPr>
            <a:xfrm>
              <a:off x="1401840" y="2958480"/>
              <a:ext cx="975960" cy="223200"/>
            </a:xfrm>
            <a:prstGeom prst="straightConnector1">
              <a:avLst/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481" name=""/>
            <p:cNvCxnSpPr>
              <a:stCxn id="463" idx="6"/>
              <a:endCxn id="469" idx="1"/>
            </p:cNvCxnSpPr>
            <p:nvPr/>
          </p:nvCxnSpPr>
          <p:spPr>
            <a:xfrm>
              <a:off x="1401840" y="2958120"/>
              <a:ext cx="880920" cy="442440"/>
            </a:xfrm>
            <a:prstGeom prst="straightConnector1">
              <a:avLst/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482" name=""/>
            <p:cNvCxnSpPr>
              <a:stCxn id="463" idx="6"/>
              <a:endCxn id="471" idx="1"/>
            </p:cNvCxnSpPr>
            <p:nvPr/>
          </p:nvCxnSpPr>
          <p:spPr>
            <a:xfrm>
              <a:off x="1401840" y="2958120"/>
              <a:ext cx="1185480" cy="387000"/>
            </a:xfrm>
            <a:prstGeom prst="straightConnector1">
              <a:avLst/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483" name=""/>
            <p:cNvCxnSpPr>
              <a:stCxn id="473" idx="6"/>
              <a:endCxn id="469" idx="1"/>
            </p:cNvCxnSpPr>
            <p:nvPr/>
          </p:nvCxnSpPr>
          <p:spPr>
            <a:xfrm>
              <a:off x="1585080" y="3181320"/>
              <a:ext cx="697680" cy="219600"/>
            </a:xfrm>
            <a:prstGeom prst="straightConnector1">
              <a:avLst/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484" name=""/>
            <p:cNvCxnSpPr>
              <a:stCxn id="473" idx="6"/>
              <a:endCxn id="471" idx="1"/>
            </p:cNvCxnSpPr>
            <p:nvPr/>
          </p:nvCxnSpPr>
          <p:spPr>
            <a:xfrm>
              <a:off x="1584720" y="3181320"/>
              <a:ext cx="1002600" cy="164160"/>
            </a:xfrm>
            <a:prstGeom prst="straightConnector1">
              <a:avLst/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485" name=""/>
            <p:cNvCxnSpPr>
              <a:stCxn id="473" idx="6"/>
              <a:endCxn id="467" idx="2"/>
            </p:cNvCxnSpPr>
            <p:nvPr/>
          </p:nvCxnSpPr>
          <p:spPr>
            <a:xfrm>
              <a:off x="1584720" y="3180960"/>
              <a:ext cx="793080" cy="1080"/>
            </a:xfrm>
            <a:prstGeom prst="straightConnector1">
              <a:avLst/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486" name=""/>
            <p:cNvCxnSpPr>
              <a:stCxn id="466" idx="4"/>
              <a:endCxn id="475" idx="0"/>
            </p:cNvCxnSpPr>
            <p:nvPr/>
          </p:nvCxnSpPr>
          <p:spPr>
            <a:xfrm>
              <a:off x="1614960" y="2986200"/>
              <a:ext cx="1080" cy="891720"/>
            </a:xfrm>
            <a:prstGeom prst="straightConnector1">
              <a:avLst/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487" name=""/>
            <p:cNvCxnSpPr>
              <a:stCxn id="466" idx="4"/>
              <a:endCxn id="464" idx="0"/>
            </p:cNvCxnSpPr>
            <p:nvPr/>
          </p:nvCxnSpPr>
          <p:spPr>
            <a:xfrm flipH="1">
              <a:off x="1309680" y="2986200"/>
              <a:ext cx="305640" cy="891720"/>
            </a:xfrm>
            <a:prstGeom prst="straightConnector1">
              <a:avLst/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488" name=""/>
            <p:cNvCxnSpPr>
              <a:stCxn id="466" idx="4"/>
              <a:endCxn id="477" idx="0"/>
            </p:cNvCxnSpPr>
            <p:nvPr/>
          </p:nvCxnSpPr>
          <p:spPr>
            <a:xfrm flipH="1">
              <a:off x="1432080" y="2986200"/>
              <a:ext cx="183600" cy="1114200"/>
            </a:xfrm>
            <a:prstGeom prst="straightConnector1">
              <a:avLst/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489" name=""/>
            <p:cNvCxnSpPr>
              <a:stCxn id="475" idx="7"/>
              <a:endCxn id="469" idx="3"/>
            </p:cNvCxnSpPr>
            <p:nvPr/>
          </p:nvCxnSpPr>
          <p:spPr>
            <a:xfrm flipV="1">
              <a:off x="1680120" y="3518280"/>
              <a:ext cx="602640" cy="383400"/>
            </a:xfrm>
            <a:prstGeom prst="straightConnector1">
              <a:avLst/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490" name=""/>
            <p:cNvCxnSpPr>
              <a:stCxn id="475" idx="7"/>
              <a:endCxn id="471" idx="3"/>
            </p:cNvCxnSpPr>
            <p:nvPr/>
          </p:nvCxnSpPr>
          <p:spPr>
            <a:xfrm flipV="1">
              <a:off x="1679760" y="3462840"/>
              <a:ext cx="907560" cy="439200"/>
            </a:xfrm>
            <a:prstGeom prst="straightConnector1">
              <a:avLst/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491" name=""/>
            <p:cNvCxnSpPr>
              <a:stCxn id="475" idx="7"/>
              <a:endCxn id="467" idx="3"/>
            </p:cNvCxnSpPr>
            <p:nvPr/>
          </p:nvCxnSpPr>
          <p:spPr>
            <a:xfrm flipV="1">
              <a:off x="1679760" y="3240000"/>
              <a:ext cx="724680" cy="661680"/>
            </a:xfrm>
            <a:prstGeom prst="straightConnector1">
              <a:avLst/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492" name=""/>
            <p:cNvCxnSpPr>
              <a:stCxn id="477" idx="7"/>
              <a:endCxn id="471" idx="3"/>
            </p:cNvCxnSpPr>
            <p:nvPr/>
          </p:nvCxnSpPr>
          <p:spPr>
            <a:xfrm flipV="1">
              <a:off x="1496880" y="3462480"/>
              <a:ext cx="1090440" cy="662040"/>
            </a:xfrm>
            <a:prstGeom prst="straightConnector1">
              <a:avLst/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493" name=""/>
            <p:cNvCxnSpPr>
              <a:stCxn id="477" idx="7"/>
              <a:endCxn id="469" idx="3"/>
            </p:cNvCxnSpPr>
            <p:nvPr/>
          </p:nvCxnSpPr>
          <p:spPr>
            <a:xfrm flipV="1">
              <a:off x="1496880" y="3518640"/>
              <a:ext cx="785880" cy="606240"/>
            </a:xfrm>
            <a:prstGeom prst="straightConnector1">
              <a:avLst/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494" name=""/>
            <p:cNvCxnSpPr>
              <a:stCxn id="477" idx="7"/>
              <a:endCxn id="467" idx="3"/>
            </p:cNvCxnSpPr>
            <p:nvPr/>
          </p:nvCxnSpPr>
          <p:spPr>
            <a:xfrm flipV="1">
              <a:off x="1496880" y="3239640"/>
              <a:ext cx="907560" cy="884520"/>
            </a:xfrm>
            <a:prstGeom prst="straightConnector1">
              <a:avLst/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495" name=""/>
            <p:cNvCxnSpPr>
              <a:stCxn id="464" idx="7"/>
              <a:endCxn id="469" idx="3"/>
            </p:cNvCxnSpPr>
            <p:nvPr/>
          </p:nvCxnSpPr>
          <p:spPr>
            <a:xfrm flipV="1">
              <a:off x="1374840" y="3518280"/>
              <a:ext cx="907560" cy="383400"/>
            </a:xfrm>
            <a:prstGeom prst="straightConnector1">
              <a:avLst/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496" name=""/>
            <p:cNvCxnSpPr>
              <a:stCxn id="464" idx="7"/>
              <a:endCxn id="471" idx="3"/>
            </p:cNvCxnSpPr>
            <p:nvPr/>
          </p:nvCxnSpPr>
          <p:spPr>
            <a:xfrm flipV="1">
              <a:off x="1374840" y="3462840"/>
              <a:ext cx="1212120" cy="439200"/>
            </a:xfrm>
            <a:prstGeom prst="straightConnector1">
              <a:avLst/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497" name=""/>
            <p:cNvCxnSpPr>
              <a:stCxn id="464" idx="7"/>
              <a:endCxn id="467" idx="3"/>
            </p:cNvCxnSpPr>
            <p:nvPr/>
          </p:nvCxnSpPr>
          <p:spPr>
            <a:xfrm flipV="1">
              <a:off x="1374840" y="3240000"/>
              <a:ext cx="1028880" cy="661680"/>
            </a:xfrm>
            <a:prstGeom prst="straightConnector1">
              <a:avLst/>
            </a:prstGeom>
            <a:ln w="9360">
              <a:solidFill>
                <a:srgbClr val="5f5f5f"/>
              </a:solidFill>
              <a:miter/>
            </a:ln>
          </p:spPr>
        </p:cxnSp>
        <p:cxnSp>
          <p:nvCxnSpPr>
            <p:cNvPr id="498" name=""/>
            <p:cNvCxnSpPr>
              <a:stCxn id="464" idx="6"/>
              <a:endCxn id="475" idx="2"/>
            </p:cNvCxnSpPr>
            <p:nvPr/>
          </p:nvCxnSpPr>
          <p:spPr>
            <a:xfrm>
              <a:off x="1402200" y="3960360"/>
              <a:ext cx="122400" cy="10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499" name=""/>
            <p:cNvCxnSpPr>
              <a:stCxn id="475" idx="3"/>
              <a:endCxn id="477" idx="7"/>
            </p:cNvCxnSpPr>
            <p:nvPr/>
          </p:nvCxnSpPr>
          <p:spPr>
            <a:xfrm flipH="1">
              <a:off x="1496880" y="4020120"/>
              <a:ext cx="54000" cy="1051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500" name=""/>
            <p:cNvCxnSpPr>
              <a:stCxn id="464" idx="5"/>
              <a:endCxn id="477" idx="0"/>
            </p:cNvCxnSpPr>
            <p:nvPr/>
          </p:nvCxnSpPr>
          <p:spPr>
            <a:xfrm>
              <a:off x="1374840" y="4020120"/>
              <a:ext cx="57960" cy="806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464" name=""/>
            <p:cNvSpPr/>
            <p:nvPr/>
          </p:nvSpPr>
          <p:spPr>
            <a:xfrm>
              <a:off x="1219320" y="3877560"/>
              <a:ext cx="182880" cy="1670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523880" y="3877560"/>
              <a:ext cx="182880" cy="1670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341000" y="4100040"/>
              <a:ext cx="182880" cy="1670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1" name=""/>
            <p:cNvCxnSpPr>
              <a:stCxn id="463" idx="5"/>
              <a:endCxn id="473" idx="1"/>
            </p:cNvCxnSpPr>
            <p:nvPr/>
          </p:nvCxnSpPr>
          <p:spPr>
            <a:xfrm>
              <a:off x="1375200" y="3017520"/>
              <a:ext cx="54000" cy="1051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502" name=""/>
            <p:cNvCxnSpPr>
              <a:stCxn id="473" idx="7"/>
              <a:endCxn id="466" idx="4"/>
            </p:cNvCxnSpPr>
            <p:nvPr/>
          </p:nvCxnSpPr>
          <p:spPr>
            <a:xfrm flipV="1">
              <a:off x="1557720" y="2985840"/>
              <a:ext cx="57960" cy="1364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503" name=""/>
            <p:cNvCxnSpPr>
              <a:stCxn id="466" idx="2"/>
              <a:endCxn id="463" idx="6"/>
            </p:cNvCxnSpPr>
            <p:nvPr/>
          </p:nvCxnSpPr>
          <p:spPr>
            <a:xfrm flipH="1">
              <a:off x="1401840" y="2903040"/>
              <a:ext cx="122400" cy="561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463" name=""/>
            <p:cNvSpPr/>
            <p:nvPr/>
          </p:nvSpPr>
          <p:spPr>
            <a:xfrm>
              <a:off x="1219320" y="2874960"/>
              <a:ext cx="182880" cy="1670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23880" y="2819520"/>
              <a:ext cx="182880" cy="1670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02200" y="3097800"/>
              <a:ext cx="182880" cy="1670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4" name=""/>
            <p:cNvCxnSpPr>
              <a:stCxn id="467" idx="4"/>
              <a:endCxn id="469" idx="7"/>
            </p:cNvCxnSpPr>
            <p:nvPr/>
          </p:nvCxnSpPr>
          <p:spPr>
            <a:xfrm flipH="1">
              <a:off x="2410920" y="3264480"/>
              <a:ext cx="57960" cy="1364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505" name=""/>
            <p:cNvCxnSpPr>
              <a:stCxn id="467" idx="5"/>
              <a:endCxn id="471" idx="1"/>
            </p:cNvCxnSpPr>
            <p:nvPr/>
          </p:nvCxnSpPr>
          <p:spPr>
            <a:xfrm>
              <a:off x="2533680" y="3240360"/>
              <a:ext cx="54000" cy="1051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506" name=""/>
            <p:cNvCxnSpPr>
              <a:stCxn id="471" idx="2"/>
              <a:endCxn id="469" idx="6"/>
            </p:cNvCxnSpPr>
            <p:nvPr/>
          </p:nvCxnSpPr>
          <p:spPr>
            <a:xfrm flipH="1">
              <a:off x="2437920" y="3404160"/>
              <a:ext cx="122400" cy="561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467" name=""/>
            <p:cNvSpPr/>
            <p:nvPr/>
          </p:nvSpPr>
          <p:spPr>
            <a:xfrm>
              <a:off x="2377440" y="3097800"/>
              <a:ext cx="182880" cy="167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255400" y="3376080"/>
              <a:ext cx="182880" cy="167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60320" y="3320640"/>
              <a:ext cx="182880" cy="167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6705720" y="2743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70536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6324120" y="37339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rot="16200000">
            <a:off x="6570720" y="2742840"/>
            <a:ext cx="135000" cy="135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rot="16200000">
            <a:off x="6646680" y="2684160"/>
            <a:ext cx="135000" cy="134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16200000">
            <a:off x="6629400" y="2742840"/>
            <a:ext cx="135000" cy="135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rot="16200000">
            <a:off x="7619760" y="3657240"/>
            <a:ext cx="135000" cy="134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rot="16200000">
            <a:off x="7561080" y="3598560"/>
            <a:ext cx="135000" cy="134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rot="16200000">
            <a:off x="7561440" y="3675240"/>
            <a:ext cx="134640" cy="134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265800" y="3903840"/>
            <a:ext cx="135000" cy="13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324480" y="3903840"/>
            <a:ext cx="135000" cy="13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342120" y="382752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520" idx="4"/>
            <a:endCxn id="521" idx="0"/>
          </p:cNvCxnSpPr>
          <p:nvPr/>
        </p:nvCxnSpPr>
        <p:spPr>
          <a:xfrm flipH="1" flipV="1">
            <a:off x="1005840" y="5409360"/>
            <a:ext cx="610200" cy="32004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522" name=""/>
          <p:cNvCxnSpPr>
            <a:stCxn id="523" idx="6"/>
            <a:endCxn id="524" idx="2"/>
          </p:cNvCxnSpPr>
          <p:nvPr/>
        </p:nvCxnSpPr>
        <p:spPr>
          <a:xfrm>
            <a:off x="1706400" y="5265720"/>
            <a:ext cx="580320" cy="7668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525" name=""/>
          <p:cNvCxnSpPr>
            <a:stCxn id="523" idx="6"/>
            <a:endCxn id="526" idx="1"/>
          </p:cNvCxnSpPr>
          <p:nvPr/>
        </p:nvCxnSpPr>
        <p:spPr>
          <a:xfrm>
            <a:off x="1706040" y="5265720"/>
            <a:ext cx="683640" cy="47376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527" name=""/>
          <p:cNvCxnSpPr>
            <a:stCxn id="523" idx="6"/>
            <a:endCxn id="528" idx="1"/>
          </p:cNvCxnSpPr>
          <p:nvPr/>
        </p:nvCxnSpPr>
        <p:spPr>
          <a:xfrm flipV="1">
            <a:off x="1706400" y="4900320"/>
            <a:ext cx="455040" cy="36576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529" name=""/>
          <p:cNvCxnSpPr>
            <a:stCxn id="530" idx="4"/>
            <a:endCxn id="521" idx="0"/>
          </p:cNvCxnSpPr>
          <p:nvPr/>
        </p:nvCxnSpPr>
        <p:spPr>
          <a:xfrm flipH="1" flipV="1">
            <a:off x="1005840" y="5409360"/>
            <a:ext cx="686520" cy="77868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531" name=""/>
          <p:cNvCxnSpPr>
            <a:stCxn id="530" idx="4"/>
            <a:endCxn id="532" idx="0"/>
          </p:cNvCxnSpPr>
          <p:nvPr/>
        </p:nvCxnSpPr>
        <p:spPr>
          <a:xfrm flipH="1" flipV="1">
            <a:off x="929520" y="5790960"/>
            <a:ext cx="762840" cy="39744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533" name=""/>
          <p:cNvCxnSpPr>
            <a:stCxn id="530" idx="4"/>
            <a:endCxn id="534" idx="0"/>
          </p:cNvCxnSpPr>
          <p:nvPr/>
        </p:nvCxnSpPr>
        <p:spPr>
          <a:xfrm flipH="1" flipV="1">
            <a:off x="929520" y="6171840"/>
            <a:ext cx="762840" cy="1656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535" name=""/>
          <p:cNvCxnSpPr>
            <a:stCxn id="520" idx="5"/>
            <a:endCxn id="532" idx="0"/>
          </p:cNvCxnSpPr>
          <p:nvPr/>
        </p:nvCxnSpPr>
        <p:spPr>
          <a:xfrm flipH="1">
            <a:off x="929520" y="5705640"/>
            <a:ext cx="749880" cy="8640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536" name=""/>
          <p:cNvCxnSpPr>
            <a:stCxn id="520" idx="4"/>
            <a:endCxn id="534" idx="0"/>
          </p:cNvCxnSpPr>
          <p:nvPr/>
        </p:nvCxnSpPr>
        <p:spPr>
          <a:xfrm flipH="1">
            <a:off x="929520" y="5729400"/>
            <a:ext cx="686520" cy="44352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537" name=""/>
          <p:cNvCxnSpPr>
            <a:stCxn id="520" idx="6"/>
            <a:endCxn id="524" idx="2"/>
          </p:cNvCxnSpPr>
          <p:nvPr/>
        </p:nvCxnSpPr>
        <p:spPr>
          <a:xfrm flipV="1">
            <a:off x="1706400" y="5341680"/>
            <a:ext cx="580320" cy="30528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538" name=""/>
          <p:cNvCxnSpPr>
            <a:stCxn id="520" idx="6"/>
            <a:endCxn id="526" idx="1"/>
          </p:cNvCxnSpPr>
          <p:nvPr/>
        </p:nvCxnSpPr>
        <p:spPr>
          <a:xfrm>
            <a:off x="1706040" y="5646600"/>
            <a:ext cx="683640" cy="9288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539" name=""/>
          <p:cNvCxnSpPr>
            <a:stCxn id="520" idx="6"/>
            <a:endCxn id="528" idx="1"/>
          </p:cNvCxnSpPr>
          <p:nvPr/>
        </p:nvCxnSpPr>
        <p:spPr>
          <a:xfrm flipV="1">
            <a:off x="1706400" y="4900320"/>
            <a:ext cx="455040" cy="74664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540" name=""/>
          <p:cNvCxnSpPr>
            <a:stCxn id="530" idx="6"/>
            <a:endCxn id="526" idx="1"/>
          </p:cNvCxnSpPr>
          <p:nvPr/>
        </p:nvCxnSpPr>
        <p:spPr>
          <a:xfrm flipV="1">
            <a:off x="1782360" y="5738400"/>
            <a:ext cx="607320" cy="36576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541" name=""/>
          <p:cNvCxnSpPr>
            <a:stCxn id="530" idx="6"/>
            <a:endCxn id="528" idx="1"/>
          </p:cNvCxnSpPr>
          <p:nvPr/>
        </p:nvCxnSpPr>
        <p:spPr>
          <a:xfrm flipV="1">
            <a:off x="1782720" y="4900320"/>
            <a:ext cx="378720" cy="120384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542" name=""/>
          <p:cNvCxnSpPr>
            <a:stCxn id="530" idx="6"/>
            <a:endCxn id="524" idx="2"/>
          </p:cNvCxnSpPr>
          <p:nvPr/>
        </p:nvCxnSpPr>
        <p:spPr>
          <a:xfrm flipV="1">
            <a:off x="1782720" y="5341680"/>
            <a:ext cx="504000" cy="76248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543" name=""/>
          <p:cNvCxnSpPr>
            <a:stCxn id="523" idx="4"/>
            <a:endCxn id="532" idx="0"/>
          </p:cNvCxnSpPr>
          <p:nvPr/>
        </p:nvCxnSpPr>
        <p:spPr>
          <a:xfrm flipH="1">
            <a:off x="929520" y="5347800"/>
            <a:ext cx="686520" cy="44388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544" name=""/>
          <p:cNvCxnSpPr>
            <a:stCxn id="523" idx="4"/>
            <a:endCxn id="521" idx="0"/>
          </p:cNvCxnSpPr>
          <p:nvPr/>
        </p:nvCxnSpPr>
        <p:spPr>
          <a:xfrm flipH="1">
            <a:off x="1005840" y="5348160"/>
            <a:ext cx="610200" cy="6264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545" name=""/>
          <p:cNvCxnSpPr>
            <a:stCxn id="523" idx="4"/>
            <a:endCxn id="534" idx="0"/>
          </p:cNvCxnSpPr>
          <p:nvPr/>
        </p:nvCxnSpPr>
        <p:spPr>
          <a:xfrm flipH="1">
            <a:off x="929520" y="5347800"/>
            <a:ext cx="686520" cy="82476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546" name=""/>
          <p:cNvCxnSpPr>
            <a:stCxn id="532" idx="7"/>
            <a:endCxn id="526" idx="3"/>
          </p:cNvCxnSpPr>
          <p:nvPr/>
        </p:nvCxnSpPr>
        <p:spPr>
          <a:xfrm>
            <a:off x="993240" y="5816160"/>
            <a:ext cx="1396440" cy="4176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547" name=""/>
          <p:cNvCxnSpPr>
            <a:stCxn id="532" idx="7"/>
            <a:endCxn id="528" idx="3"/>
          </p:cNvCxnSpPr>
          <p:nvPr/>
        </p:nvCxnSpPr>
        <p:spPr>
          <a:xfrm flipV="1">
            <a:off x="993600" y="5019120"/>
            <a:ext cx="1167480" cy="79740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548" name=""/>
          <p:cNvCxnSpPr>
            <a:stCxn id="532" idx="7"/>
            <a:endCxn id="524" idx="3"/>
          </p:cNvCxnSpPr>
          <p:nvPr/>
        </p:nvCxnSpPr>
        <p:spPr>
          <a:xfrm flipV="1">
            <a:off x="993240" y="5400000"/>
            <a:ext cx="1320120" cy="41652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549" name=""/>
          <p:cNvCxnSpPr>
            <a:stCxn id="534" idx="7"/>
            <a:endCxn id="528" idx="3"/>
          </p:cNvCxnSpPr>
          <p:nvPr/>
        </p:nvCxnSpPr>
        <p:spPr>
          <a:xfrm flipV="1">
            <a:off x="993600" y="5019120"/>
            <a:ext cx="1167480" cy="117684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550" name=""/>
          <p:cNvCxnSpPr>
            <a:stCxn id="534" idx="7"/>
            <a:endCxn id="526" idx="3"/>
          </p:cNvCxnSpPr>
          <p:nvPr/>
        </p:nvCxnSpPr>
        <p:spPr>
          <a:xfrm flipV="1">
            <a:off x="993240" y="5857200"/>
            <a:ext cx="1396440" cy="33876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551" name=""/>
          <p:cNvCxnSpPr>
            <a:stCxn id="534" idx="7"/>
            <a:endCxn id="524" idx="3"/>
          </p:cNvCxnSpPr>
          <p:nvPr/>
        </p:nvCxnSpPr>
        <p:spPr>
          <a:xfrm flipV="1">
            <a:off x="993240" y="5400000"/>
            <a:ext cx="1320120" cy="79596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552" name=""/>
          <p:cNvCxnSpPr>
            <a:stCxn id="521" idx="7"/>
            <a:endCxn id="526" idx="3"/>
          </p:cNvCxnSpPr>
          <p:nvPr/>
        </p:nvCxnSpPr>
        <p:spPr>
          <a:xfrm>
            <a:off x="1069560" y="5435280"/>
            <a:ext cx="1320120" cy="42300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553" name=""/>
          <p:cNvCxnSpPr>
            <a:stCxn id="521" idx="7"/>
            <a:endCxn id="528" idx="3"/>
          </p:cNvCxnSpPr>
          <p:nvPr/>
        </p:nvCxnSpPr>
        <p:spPr>
          <a:xfrm flipV="1">
            <a:off x="1069920" y="5019120"/>
            <a:ext cx="1091520" cy="41652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554" name=""/>
          <p:cNvCxnSpPr>
            <a:stCxn id="521" idx="7"/>
            <a:endCxn id="524" idx="3"/>
          </p:cNvCxnSpPr>
          <p:nvPr/>
        </p:nvCxnSpPr>
        <p:spPr>
          <a:xfrm flipV="1">
            <a:off x="1069560" y="5400000"/>
            <a:ext cx="1243800" cy="35640"/>
          </a:xfrm>
          <a:prstGeom prst="straightConnector1">
            <a:avLst/>
          </a:prstGeom>
          <a:ln w="9360">
            <a:solidFill>
              <a:srgbClr val="5f5f5f"/>
            </a:solidFill>
            <a:miter/>
          </a:ln>
        </p:spPr>
      </p:cxnSp>
      <p:cxnSp>
        <p:nvCxnSpPr>
          <p:cNvPr id="555" name=""/>
          <p:cNvCxnSpPr>
            <a:stCxn id="521" idx="4"/>
            <a:endCxn id="532" idx="0"/>
          </p:cNvCxnSpPr>
          <p:nvPr/>
        </p:nvCxnSpPr>
        <p:spPr>
          <a:xfrm flipH="1">
            <a:off x="930240" y="5578200"/>
            <a:ext cx="76680" cy="2134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56" name=""/>
          <p:cNvCxnSpPr>
            <a:stCxn id="532" idx="4"/>
            <a:endCxn id="534" idx="7"/>
          </p:cNvCxnSpPr>
          <p:nvPr/>
        </p:nvCxnSpPr>
        <p:spPr>
          <a:xfrm>
            <a:off x="930240" y="5959080"/>
            <a:ext cx="64080" cy="2372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21" idx="5"/>
            <a:endCxn id="534" idx="0"/>
          </p:cNvCxnSpPr>
          <p:nvPr/>
        </p:nvCxnSpPr>
        <p:spPr>
          <a:xfrm flipH="1">
            <a:off x="929880" y="5553000"/>
            <a:ext cx="140400" cy="619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1" name=""/>
          <p:cNvSpPr/>
          <p:nvPr/>
        </p:nvSpPr>
        <p:spPr>
          <a:xfrm>
            <a:off x="914400" y="5410080"/>
            <a:ext cx="182520" cy="1684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38080" y="5791320"/>
            <a:ext cx="182520" cy="1681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8080" y="6172200"/>
            <a:ext cx="182520" cy="1666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8" name=""/>
          <p:cNvCxnSpPr>
            <a:stCxn id="520" idx="4"/>
            <a:endCxn id="530" idx="0"/>
          </p:cNvCxnSpPr>
          <p:nvPr/>
        </p:nvCxnSpPr>
        <p:spPr>
          <a:xfrm>
            <a:off x="1616040" y="5729040"/>
            <a:ext cx="76680" cy="2912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59" name=""/>
          <p:cNvCxnSpPr>
            <a:stCxn id="530" idx="7"/>
            <a:endCxn id="523" idx="4"/>
          </p:cNvCxnSpPr>
          <p:nvPr/>
        </p:nvCxnSpPr>
        <p:spPr>
          <a:xfrm flipH="1" flipV="1">
            <a:off x="1615680" y="5347800"/>
            <a:ext cx="14040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0" name=""/>
          <p:cNvCxnSpPr>
            <a:stCxn id="523" idx="4"/>
            <a:endCxn id="520" idx="0"/>
          </p:cNvCxnSpPr>
          <p:nvPr/>
        </p:nvCxnSpPr>
        <p:spPr>
          <a:xfrm>
            <a:off x="1615680" y="5348160"/>
            <a:ext cx="1080" cy="2152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20" name=""/>
          <p:cNvSpPr/>
          <p:nvPr/>
        </p:nvSpPr>
        <p:spPr>
          <a:xfrm>
            <a:off x="1523880" y="5562720"/>
            <a:ext cx="18252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5181480"/>
            <a:ext cx="18252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600200" y="6019920"/>
            <a:ext cx="182520" cy="1681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1" name=""/>
          <p:cNvCxnSpPr>
            <a:stCxn id="524" idx="4"/>
            <a:endCxn id="526" idx="0"/>
          </p:cNvCxnSpPr>
          <p:nvPr/>
        </p:nvCxnSpPr>
        <p:spPr>
          <a:xfrm>
            <a:off x="2377800" y="5425560"/>
            <a:ext cx="76680" cy="2894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62" name=""/>
          <p:cNvCxnSpPr>
            <a:stCxn id="524" idx="1"/>
            <a:endCxn id="528" idx="5"/>
          </p:cNvCxnSpPr>
          <p:nvPr/>
        </p:nvCxnSpPr>
        <p:spPr>
          <a:xfrm flipH="1" flipV="1">
            <a:off x="2288880" y="5019480"/>
            <a:ext cx="24480" cy="2642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28" idx="2"/>
            <a:endCxn id="526" idx="0"/>
          </p:cNvCxnSpPr>
          <p:nvPr/>
        </p:nvCxnSpPr>
        <p:spPr>
          <a:xfrm>
            <a:off x="2133720" y="4960440"/>
            <a:ext cx="321120" cy="75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4" name=""/>
          <p:cNvSpPr/>
          <p:nvPr/>
        </p:nvSpPr>
        <p:spPr>
          <a:xfrm>
            <a:off x="2286000" y="5257800"/>
            <a:ext cx="182520" cy="168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362320" y="5715000"/>
            <a:ext cx="18252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133720" y="4876920"/>
            <a:ext cx="182520" cy="166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3581280" y="2666880"/>
          <a:ext cx="1643040" cy="15001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3581280" y="4800600"/>
          <a:ext cx="1643040" cy="150012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566" name=""/>
          <p:cNvSpPr/>
          <p:nvPr/>
        </p:nvSpPr>
        <p:spPr>
          <a:xfrm>
            <a:off x="6705720" y="47829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6705360" y="5773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6324120" y="57736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rot="16200000">
            <a:off x="6553080" y="4782600"/>
            <a:ext cx="135000" cy="135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rot="16200000">
            <a:off x="6646680" y="4723920"/>
            <a:ext cx="135000" cy="134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rot="16200000">
            <a:off x="6723000" y="4782600"/>
            <a:ext cx="135000" cy="135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rot="16200000">
            <a:off x="7619760" y="5697000"/>
            <a:ext cx="135000" cy="134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rot="16200000">
            <a:off x="7561080" y="5579640"/>
            <a:ext cx="135000" cy="134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rot="16200000">
            <a:off x="7561080" y="5808240"/>
            <a:ext cx="135000" cy="134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65800" y="594360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324480" y="603720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324480" y="5791320"/>
            <a:ext cx="135000" cy="13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990720" y="6553080"/>
            <a:ext cx="81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Slides from Dan Klein, Sep Kamvar, Chris Manning, Natural Language Group Stanford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FA05-5769-45DD-B5A0-B6F9860F3A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ustering and 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our data is in spectral sp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344680" y="27255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2344320" y="3716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1963800" y="3716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16200000">
            <a:off x="2192400" y="272520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rot="16200000">
            <a:off x="2286000" y="266652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rot="16200000">
            <a:off x="2361960" y="2725200"/>
            <a:ext cx="135000" cy="13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rot="16200000">
            <a:off x="3259080" y="363960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16200000">
            <a:off x="3200400" y="352224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16200000">
            <a:off x="3200400" y="375084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05120" y="3886200"/>
            <a:ext cx="13464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63800" y="397980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963800" y="3733920"/>
            <a:ext cx="135000" cy="13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068960" y="27255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7068960" y="3716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6688080" y="37162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rot="16200000">
            <a:off x="6916680" y="2725200"/>
            <a:ext cx="135000" cy="135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rot="16200000">
            <a:off x="7010280" y="2666520"/>
            <a:ext cx="135000" cy="135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16200000">
            <a:off x="7086600" y="2725200"/>
            <a:ext cx="135000" cy="135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rot="16200000">
            <a:off x="7983360" y="3639600"/>
            <a:ext cx="135000" cy="135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rot="16200000">
            <a:off x="7924680" y="3522240"/>
            <a:ext cx="135000" cy="135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rot="16200000">
            <a:off x="7924680" y="3750840"/>
            <a:ext cx="135000" cy="135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629400" y="388620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688080" y="397980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688080" y="3733920"/>
            <a:ext cx="135000" cy="13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4038480" y="2438280"/>
            <a:ext cx="1981440" cy="1828800"/>
            <a:chOff x="4038480" y="2438280"/>
            <a:chExt cx="1981440" cy="1828800"/>
          </a:xfrm>
        </p:grpSpPr>
        <p:sp>
          <p:nvSpPr>
            <p:cNvPr id="606" name=""/>
            <p:cNvSpPr/>
            <p:nvPr/>
          </p:nvSpPr>
          <p:spPr>
            <a:xfrm>
              <a:off x="4724280" y="272556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4724280" y="371628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4343400" y="371628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6200000">
              <a:off x="4572000" y="2725200"/>
              <a:ext cx="135000" cy="135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16200000">
              <a:off x="4665600" y="2666520"/>
              <a:ext cx="135000" cy="135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16200000">
              <a:off x="4741920" y="2725200"/>
              <a:ext cx="135000" cy="135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16200000">
              <a:off x="5638680" y="3639600"/>
              <a:ext cx="135000" cy="135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16200000">
              <a:off x="5580000" y="3522240"/>
              <a:ext cx="135000" cy="135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16200000">
              <a:off x="5580000" y="3750840"/>
              <a:ext cx="135000" cy="135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84720" y="3886200"/>
              <a:ext cx="135000" cy="135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343400" y="3979800"/>
              <a:ext cx="135000" cy="135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343400" y="3733920"/>
              <a:ext cx="135000" cy="134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038480" y="3581280"/>
              <a:ext cx="762120" cy="68580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57800" y="3352680"/>
              <a:ext cx="762120" cy="685800"/>
            </a:xfrm>
            <a:prstGeom prst="ellipse">
              <a:avLst/>
            </a:prstGeom>
            <a:noFill/>
            <a:ln w="507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343400" y="2438280"/>
              <a:ext cx="762120" cy="685800"/>
            </a:xfrm>
            <a:prstGeom prst="ellipse">
              <a:avLst/>
            </a:prstGeom>
            <a:noFill/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2344680" y="493560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2344320" y="59259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1963800" y="592596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rot="16200000">
            <a:off x="2192400" y="493524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rot="16200000">
            <a:off x="2286000" y="4876560"/>
            <a:ext cx="13464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rot="16200000">
            <a:off x="2361960" y="4935240"/>
            <a:ext cx="135000" cy="13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rot="16200000">
            <a:off x="3259080" y="584964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rot="16200000">
            <a:off x="3200400" y="5732280"/>
            <a:ext cx="13464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rot="16200000">
            <a:off x="3200400" y="5960880"/>
            <a:ext cx="13464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905120" y="6095880"/>
            <a:ext cx="13464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963800" y="6189840"/>
            <a:ext cx="135000" cy="13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963800" y="594360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068960" y="493560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7068960" y="59259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6688080" y="592596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6916680" y="4935240"/>
            <a:ext cx="135000" cy="135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rot="16200000">
            <a:off x="7010280" y="4876560"/>
            <a:ext cx="134640" cy="135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7086600" y="4935240"/>
            <a:ext cx="135000" cy="1350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rot="16200000">
            <a:off x="7983360" y="5849640"/>
            <a:ext cx="135000" cy="135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924680" y="5732280"/>
            <a:ext cx="134640" cy="135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rot="16200000">
            <a:off x="7924680" y="5960880"/>
            <a:ext cx="134640" cy="135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629400" y="609588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688080" y="6189840"/>
            <a:ext cx="135000" cy="134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88080" y="594360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3657600" y="4572000"/>
            <a:ext cx="2286000" cy="2209680"/>
            <a:chOff x="3657600" y="4572000"/>
            <a:chExt cx="2286000" cy="2209680"/>
          </a:xfrm>
        </p:grpSpPr>
        <p:sp>
          <p:nvSpPr>
            <p:cNvPr id="646" name=""/>
            <p:cNvSpPr/>
            <p:nvPr/>
          </p:nvSpPr>
          <p:spPr>
            <a:xfrm>
              <a:off x="3886200" y="4572000"/>
              <a:ext cx="1752480" cy="838080"/>
            </a:xfrm>
            <a:custGeom>
              <a:avLst/>
              <a:gdLst/>
              <a:ahLst/>
              <a:rect l="l" t="t" r="r" b="b"/>
              <a:pathLst>
                <a:path w="1104" h="528">
                  <a:moveTo>
                    <a:pt x="0" y="528"/>
                  </a:moveTo>
                  <a:lnTo>
                    <a:pt x="96" y="96"/>
                  </a:lnTo>
                  <a:lnTo>
                    <a:pt x="720" y="0"/>
                  </a:lnTo>
                  <a:lnTo>
                    <a:pt x="1104" y="288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29200" y="5029200"/>
              <a:ext cx="914400" cy="1600200"/>
            </a:xfrm>
            <a:custGeom>
              <a:avLst/>
              <a:gdLst/>
              <a:ahLst/>
              <a:rect l="l" t="t" r="r" b="b"/>
              <a:pathLst>
                <a:path w="576" h="1008">
                  <a:moveTo>
                    <a:pt x="384" y="0"/>
                  </a:moveTo>
                  <a:lnTo>
                    <a:pt x="576" y="432"/>
                  </a:lnTo>
                  <a:lnTo>
                    <a:pt x="432" y="960"/>
                  </a:lnTo>
                  <a:lnTo>
                    <a:pt x="0" y="1008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657600" y="5410080"/>
              <a:ext cx="1371600" cy="137160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144" y="0"/>
                  </a:moveTo>
                  <a:lnTo>
                    <a:pt x="0" y="384"/>
                  </a:lnTo>
                  <a:lnTo>
                    <a:pt x="480" y="864"/>
                  </a:lnTo>
                  <a:lnTo>
                    <a:pt x="864" y="768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4572000" y="4935240"/>
              <a:ext cx="135000" cy="135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16200000">
              <a:off x="4665600" y="4876560"/>
              <a:ext cx="134640" cy="135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16200000">
              <a:off x="4741920" y="4935240"/>
              <a:ext cx="135000" cy="1350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6200000">
              <a:off x="5638680" y="5849640"/>
              <a:ext cx="135000" cy="135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16200000">
              <a:off x="5580000" y="5732280"/>
              <a:ext cx="134640" cy="135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6200000">
              <a:off x="5580000" y="5960880"/>
              <a:ext cx="134640" cy="1350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284720" y="6095880"/>
              <a:ext cx="135000" cy="135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43400" y="6189840"/>
              <a:ext cx="135000" cy="134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886200" y="5029200"/>
              <a:ext cx="1752480" cy="609480"/>
            </a:xfrm>
            <a:custGeom>
              <a:avLst/>
              <a:gdLst/>
              <a:ahLst/>
              <a:rect l="l" t="t" r="r" b="b"/>
              <a:pathLst>
                <a:path w="1104" h="384">
                  <a:moveTo>
                    <a:pt x="0" y="240"/>
                  </a:moveTo>
                  <a:lnTo>
                    <a:pt x="624" y="384"/>
                  </a:lnTo>
                  <a:lnTo>
                    <a:pt x="1104" y="0"/>
                  </a:lnTo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876920" y="5029200"/>
              <a:ext cx="761760" cy="1600200"/>
            </a:xfrm>
            <a:custGeom>
              <a:avLst/>
              <a:gdLst/>
              <a:ahLst/>
              <a:rect l="l" t="t" r="r" b="b"/>
              <a:pathLst>
                <a:path w="480" h="1008">
                  <a:moveTo>
                    <a:pt x="480" y="0"/>
                  </a:moveTo>
                  <a:lnTo>
                    <a:pt x="0" y="384"/>
                  </a:lnTo>
                  <a:lnTo>
                    <a:pt x="96" y="1008"/>
                  </a:lnTo>
                </a:path>
              </a:pathLst>
            </a:custGeom>
            <a:gradFill rotWithShape="0">
              <a:gsLst>
                <a:gs pos="0">
                  <a:srgbClr val="ffcfe7"/>
                </a:gs>
                <a:gs pos="100000">
                  <a:srgbClr val="ff99cc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886200" y="5410080"/>
              <a:ext cx="1143000" cy="121932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0" y="0"/>
                  </a:moveTo>
                  <a:lnTo>
                    <a:pt x="624" y="144"/>
                  </a:lnTo>
                  <a:lnTo>
                    <a:pt x="720" y="768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dfe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724280" y="493560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4724280" y="592596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4343400" y="5925960"/>
              <a:ext cx="3808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343400" y="5943600"/>
              <a:ext cx="135000" cy="135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990720" y="6553080"/>
            <a:ext cx="81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Slides from Dan Klein, Sep Kamvar, Chris Manning, Natural Language Group Stanford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070C-FFAC-43B6-979D-45E32B6C82B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: Segmentation and Grou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for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 of sequence/set of tok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for a goal or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, no real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6440" y="914400"/>
            <a:ext cx="75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: Segmentation breaks an image into groups over space and/o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1523880"/>
            <a:ext cx="46483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oken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ings that are grouped (pixels, points, surface elements, etc.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down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kens grouped because they lie on the same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5320" y="41148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 up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kens belong together because of some local affinity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 up/Top Dowon need not be mutually excl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A792-10A7-4FCF-9C57-41D8A7B519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Affi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744200" y="177624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668600" y="45957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652760" y="31114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3649680" y="2081160"/>
            <a:ext cx="5079960" cy="77472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2"/>
          <a:stretch/>
        </p:blipFill>
        <p:spPr>
          <a:xfrm>
            <a:off x="3573360" y="3529080"/>
            <a:ext cx="4407120" cy="77472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3"/>
          <a:stretch/>
        </p:blipFill>
        <p:spPr>
          <a:xfrm>
            <a:off x="3192480" y="5205240"/>
            <a:ext cx="5067360" cy="77472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6741720" y="6613560"/>
            <a:ext cx="239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From Marc Pollefeys COMP 25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DB1B-D9FE-469F-B394-33136BD87BD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e affects affi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1420920" y="1344600"/>
            <a:ext cx="6578640" cy="474984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2"/>
          <a:stretch/>
        </p:blipFill>
        <p:spPr>
          <a:xfrm>
            <a:off x="2511360" y="6080040"/>
            <a:ext cx="4876920" cy="44784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3"/>
          <a:stretch/>
        </p:blipFill>
        <p:spPr>
          <a:xfrm>
            <a:off x="6805440" y="2455920"/>
            <a:ext cx="790920" cy="49536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6741720" y="6613560"/>
            <a:ext cx="239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From Marc Pollefeys COMP 25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2BE7-9BB7-4464-9BE6-0CD1ED7CCD6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723960" y="324000"/>
            <a:ext cx="7267680" cy="593388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6741720" y="6613560"/>
            <a:ext cx="239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From Marc Pollefeys COMP 25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77E1-64A9-41C0-A444-19EF9EC4C1B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backs of Minimum C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 of cut is directly proportional to the number of edges in the c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900080" y="3527280"/>
            <a:ext cx="260640" cy="308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876320" y="4013280"/>
            <a:ext cx="260280" cy="307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847880" y="4568760"/>
            <a:ext cx="260280" cy="308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357280" y="4032360"/>
            <a:ext cx="260640" cy="307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332080" y="4576680"/>
            <a:ext cx="260280" cy="308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06560" y="3552840"/>
            <a:ext cx="260640" cy="307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374920" y="3551400"/>
            <a:ext cx="260280" cy="307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552840" y="4262400"/>
            <a:ext cx="260280" cy="3081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2803680" y="4048200"/>
            <a:ext cx="260280" cy="307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705120" y="5008680"/>
            <a:ext cx="260280" cy="30780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801880" y="4579920"/>
            <a:ext cx="260280" cy="308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4521240" y="3460680"/>
            <a:ext cx="260280" cy="3081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662360" y="4968720"/>
            <a:ext cx="260640" cy="3081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146560" y="4051440"/>
            <a:ext cx="260640" cy="30780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660840" y="3467160"/>
            <a:ext cx="260280" cy="30780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3359160" y="3075120"/>
            <a:ext cx="1440" cy="254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592520" y="3182760"/>
            <a:ext cx="1797120" cy="1627200"/>
          </a:xfrm>
          <a:custGeom>
            <a:avLst/>
            <a:gdLst/>
            <a:ahLst/>
            <a:rect l="l" t="t" r="r" b="b"/>
            <a:pathLst>
              <a:path w="1132" h="1025">
                <a:moveTo>
                  <a:pt x="720" y="0"/>
                </a:moveTo>
                <a:cubicBezTo>
                  <a:pt x="360" y="217"/>
                  <a:pt x="0" y="435"/>
                  <a:pt x="69" y="606"/>
                </a:cubicBezTo>
                <a:cubicBezTo>
                  <a:pt x="138" y="777"/>
                  <a:pt x="635" y="901"/>
                  <a:pt x="1132" y="1025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221000" y="4498920"/>
            <a:ext cx="2190960" cy="1295280"/>
          </a:xfrm>
          <a:custGeom>
            <a:avLst/>
            <a:gdLst/>
            <a:ahLst/>
            <a:rect l="l" t="t" r="r" b="b"/>
            <a:pathLst>
              <a:path w="1380" h="816">
                <a:moveTo>
                  <a:pt x="1380" y="585"/>
                </a:moveTo>
                <a:cubicBezTo>
                  <a:pt x="889" y="292"/>
                  <a:pt x="398" y="0"/>
                  <a:pt x="199" y="39"/>
                </a:cubicBezTo>
                <a:cubicBezTo>
                  <a:pt x="0" y="78"/>
                  <a:pt x="92" y="447"/>
                  <a:pt x="184" y="81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1971720" y="5011560"/>
            <a:ext cx="131760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274760" y="5432400"/>
            <a:ext cx="130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 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 flipV="1">
            <a:off x="5592600" y="3408480"/>
            <a:ext cx="1378080" cy="69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6281280" y="4132440"/>
            <a:ext cx="701640" cy="11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008480" y="3816360"/>
            <a:ext cx="178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ts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er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 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926960" y="6613560"/>
            <a:ext cx="42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Slide from Khurram Hassan-Shafiqu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5415 Computer Vision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A637-3B35-4196-988E-11B30A3F7A6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ized Cuts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ized cut is defined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,B) is the measure of dissimilarity of sets A and 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ing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,B) maximizes a measure of similarity within the sets A and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1863720" y="2741760"/>
                <a:ext cx="52005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u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w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</m:e>
                        </m:nary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w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w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685800" y="5943600"/>
            <a:ext cx="832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. Shi and J. Malik, “Normalized Cuts &amp; Image Segmentation,” IEEE  Trans. of PAMI, Aug 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4926960" y="6613560"/>
            <a:ext cx="42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Slide from Khurram Hassan-Shafiqu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5415 Computer Vision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CA60-B2D4-45C5-9443-9073EAE2794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Minimum Normalized-C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the  Minimum Normalized-Cut is NP-H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 Approximations are generally used for se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926960" y="6613560"/>
            <a:ext cx="42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Slide from Khurram Hassan-Shafiqu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5415 Computer Vision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6251-4A77-4820-95B6-043D98ABD84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14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Minimum Normalized-C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781200" y="1700280"/>
                <a:ext cx="44956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 symmetric matrix, wher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770040" y="2332080"/>
                <a:ext cx="46353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‖"/>
                                      <m:endChr m:val="‖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F</m:t>
                                          </m:r>
                                        </m:e>
                                        <m:sub>
                                          <m:r>
                                            <m:t xml:space="preserve">j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/</m:t>
                                  </m:r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sup>
                              </m:sSup>
                              <m:r>
                                <m:t xml:space="preserve">×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d>
                                    <m:dPr>
                                      <m:begChr m:val="‖"/>
                                      <m:endChr m:val="‖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j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/</m:t>
                                  </m:r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</m:t>
                              </m:r>
                              <m:r>
                                <m:t xml:space="preserve">j</m:t>
                              </m:r>
                              <m:r>
                                <m:t xml:space="preserve">∈</m:t>
                              </m:r>
                              <m:r>
                                <m:t xml:space="preserve">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i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744480" y="3541680"/>
                <a:ext cx="432900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mage feature similarity</m:t>
                        </m:r>
                      </m:e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patial Proximit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727200" y="4784760"/>
                <a:ext cx="42400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 diagonal matrix, wher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5106960" y="4778280"/>
                <a:ext cx="18716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r>
                          <m:t xml:space="preserve">W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20" name=""/>
          <p:cNvSpPr/>
          <p:nvPr/>
        </p:nvSpPr>
        <p:spPr>
          <a:xfrm>
            <a:off x="5198760" y="6613560"/>
            <a:ext cx="394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From Khurram Hassan-Shafiqu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5415 Computer Vision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72B4-5E5A-4F42-B35B-D19FF243679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be shown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llowed to take real values then the minimization can be done by solving the generalized eigenvalu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title"/>
          </p:nvPr>
        </p:nvSpPr>
        <p:spPr>
          <a:xfrm>
            <a:off x="685800" y="14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Minimum Normalized-C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3844800" y="1447920"/>
                <a:ext cx="327528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W</m:t>
                            </m:r>
                          </m:e>
                        </m:d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1828800" y="2511360"/>
                <a:ext cx="4595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0</m:t>
                    </m:r>
                    <m:r>
                      <m:t xml:space="preserve">&lt;</m:t>
                    </m:r>
                    <m:r>
                      <m:t xml:space="preserve">b</m:t>
                    </m:r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3048120" y="4335480"/>
                <a:ext cx="2313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</m:e>
                    </m:d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6" name=""/>
          <p:cNvSpPr/>
          <p:nvPr/>
        </p:nvSpPr>
        <p:spPr>
          <a:xfrm>
            <a:off x="4926960" y="6613560"/>
            <a:ext cx="42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Slide from Khurram Hassan-Shafiqu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5415 Computer Vision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32EE-F8E2-4AB3-8900-0AE9DD8ED03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matrices W &amp;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                           for eigen vectors with the smallest eigen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eigen vector with second smallest eigen value to bipartition the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ly partition the segmented parts if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1789200" y="2085840"/>
                <a:ext cx="2313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</m:e>
                    </m:d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0" name=""/>
          <p:cNvSpPr/>
          <p:nvPr/>
        </p:nvSpPr>
        <p:spPr>
          <a:xfrm>
            <a:off x="4926960" y="6613560"/>
            <a:ext cx="42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Slide from Khurram Hassan-Shafiqu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5415 Computer Vision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967-6B29-4D4A-B204-0E5A69A93C3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1447920" y="152280"/>
            <a:ext cx="6959520" cy="486432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1388520" y="5257800"/>
            <a:ext cx="651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“Image and video segmentation: the normalised cut framework”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 Shi and Malik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926960" y="6613560"/>
            <a:ext cx="42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Slide from Khurram Hassan-Shafiqu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5415 Computer Vision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DACB-C2E7-4C42-8AF4-1A16D79BFFE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gmentation in Hum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C9A2-880A-4A65-AFEE-0AB770ED17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6172200" cy="24001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1622520" y="4259160"/>
            <a:ext cx="698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 igure from “Normalized cuts and image segmentation,” Shi and Malik,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926960" y="6613560"/>
            <a:ext cx="42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Slide from Khurram Hassan-Shafiqu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5415 Computer Vision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B703-987A-4119-AD1F-1F8A4914F3D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backs of Minimum Normalized C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ge Storage Requirement and time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as towards partitioning into equal se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problems with textured backg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926960" y="6613560"/>
            <a:ext cx="42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Slide from Khurram Hassan-Shafiqu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P5415 Computer Vision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36FE-D4DA-4121-8E5B-DDD7987BC86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gmentation by 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4E33-3077-4C4C-8ACC-8D7185AA3BA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gmentation as 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uster together (pixels, tokens, etc.) that belong togeth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gglomerative cluster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ach closest to cluster it is closest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visive cluster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t cluster along best bound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int-Cluster dista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-link 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-link 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-average 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ndrogram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ield a picture of output as clustering process conti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741720" y="6613560"/>
            <a:ext cx="239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From Marc Pollefeys COMP 25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1A89-F201-4B5C-BC4D-D5F4985E09C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lustering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1"/>
          <a:stretch/>
        </p:blipFill>
        <p:spPr>
          <a:xfrm>
            <a:off x="1449360" y="1182600"/>
            <a:ext cx="6127920" cy="5112000"/>
          </a:xfrm>
          <a:prstGeom prst="rect">
            <a:avLst/>
          </a:prstGeom>
          <a:ln w="0">
            <a:noFill/>
          </a:ln>
        </p:spPr>
      </p:pic>
      <p:sp>
        <p:nvSpPr>
          <p:cNvPr id="747" name=""/>
          <p:cNvSpPr/>
          <p:nvPr/>
        </p:nvSpPr>
        <p:spPr>
          <a:xfrm>
            <a:off x="6741720" y="6613560"/>
            <a:ext cx="239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From Marc Pollefeys COMP 25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764A-6BDD-4CDB-A0F6-CE9D3FEB7F2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5052960" y="1316160"/>
            <a:ext cx="3301920" cy="412740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630360" y="1982880"/>
            <a:ext cx="3855960" cy="295092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6741720" y="6613560"/>
            <a:ext cx="239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From Marc Pollefeys COMP 25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76BF-C15D-48AE-9BC5-8C968B32EAA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Shift Se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035720" y="1208160"/>
            <a:ext cx="62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erhaps the best technique to dat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577800" y="2278080"/>
            <a:ext cx="7705800" cy="303372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065960" y="5673600"/>
            <a:ext cx="71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aip.rutgers.edu/~comanici/MSPAMI/msPamiResult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1102-A970-4AF7-82FA-B0AD0AA50A6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176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Shift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82480" y="654840"/>
            <a:ext cx="801720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8160" bIns="38160" anchor="ctr">
            <a:spAutoFit/>
          </a:bodyPr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 Shift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search window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initial location of the search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the mean location (centroid of the data) in the search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the search window at the mean location computed in Step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Steps 3 and 4 until converg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4511520" y="2963880"/>
            <a:ext cx="4526280" cy="357012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2"/>
          <a:stretch/>
        </p:blipFill>
        <p:spPr>
          <a:xfrm>
            <a:off x="298440" y="2998800"/>
            <a:ext cx="3983040" cy="353520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272880" y="2962440"/>
            <a:ext cx="4105440" cy="3562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560" y="2543040"/>
            <a:ext cx="83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The mean shift algorithm seeks the “mode” or point of highest density of a data distribu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17FE-20EB-446C-B94D-EB40AA7F9E5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334" fill="hold"/>
                                        <p:tgtEl>
                                          <p:spTgt spid="7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75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5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7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581040" y="654840"/>
            <a:ext cx="8286840" cy="17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8160" bIns="38160" anchor="ctr">
            <a:spAutoFit/>
          </a:bodyPr>
          <a:p>
            <a:pPr marL="343080" indent="-34308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 Shift Setmentation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 the image into tokens (via color, gradients, texture measures et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initial search window locations uniformly in th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the mean shift window location for each initial pos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ge windows that end up on the same “peak” or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these merged windows traversed are clustered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1747800" y="2408400"/>
            <a:ext cx="5238720" cy="3965400"/>
          </a:xfrm>
          <a:prstGeom prst="rect">
            <a:avLst/>
          </a:prstGeom>
          <a:ln w="0">
            <a:noFill/>
          </a:ln>
        </p:spPr>
      </p:pic>
      <p:sp>
        <p:nvSpPr>
          <p:cNvPr id="763" name=""/>
          <p:cNvSpPr/>
          <p:nvPr/>
        </p:nvSpPr>
        <p:spPr>
          <a:xfrm>
            <a:off x="1523880" y="640080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mage From: Dorin Comaniciu and Peter Meer, Distribution Free Decomposition of Multivariate Data, Pattern Analysis &amp; Applications (1999)2:22–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57200" y="-176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n Shift Se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47DE-ABF2-4053-90B9-FFF01E1C654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58400" y="-265320"/>
            <a:ext cx="88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n Shift Segmentation Exte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108000" y="2703600"/>
            <a:ext cx="4467240" cy="355284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4638600" y="2719440"/>
            <a:ext cx="4505400" cy="357192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/>
          <p:nvPr/>
        </p:nvSpPr>
        <p:spPr>
          <a:xfrm>
            <a:off x="-100440" y="766800"/>
            <a:ext cx="800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ry Bradski’s internally publish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gglomerative cluste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ten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 shift dend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a tiny mean shift window over each data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 the window and mean shif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 windows that merge along with the data they transver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everything is merged into one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853920" y="544680"/>
            <a:ext cx="66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s scale (search window size) sensitive.  Solution, use all sca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3760" y="242244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est 4 clust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554720" y="242244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est 2 clust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867960" y="6359400"/>
            <a:ext cx="652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 over agglomerative clustering:  Highly paralleliz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3422-340C-48E5-9E9C-DE7C863AAAD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715000" cy="5381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4280" y="92160"/>
            <a:ext cx="20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7880" y="609480"/>
            <a:ext cx="81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humans at least, Gestalt psychology identifies several properties that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rouping/segment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7E82-9376-4E2B-B0E8-8D97CF6D8B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74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n Shift Segment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4508640" y="3757680"/>
            <a:ext cx="3727440" cy="254772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2"/>
          <a:stretch/>
        </p:blipFill>
        <p:spPr>
          <a:xfrm>
            <a:off x="309600" y="1182600"/>
            <a:ext cx="3733920" cy="240048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3"/>
          <a:stretch/>
        </p:blipFill>
        <p:spPr>
          <a:xfrm>
            <a:off x="4492800" y="1147680"/>
            <a:ext cx="3733560" cy="240048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4"/>
          <a:stretch/>
        </p:blipFill>
        <p:spPr>
          <a:xfrm>
            <a:off x="324000" y="3757680"/>
            <a:ext cx="3728880" cy="254772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918360" y="6324480"/>
            <a:ext cx="71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aip.rutgers.edu/~comanici/MSPAMI/msPamiResult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C3E5-CBEA-4004-843C-F574E7CC338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240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-M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23640" y="1434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fixed number of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luster centers and point-cluster allocations to minimize err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do this by search, because there are too many possible allo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286160" y="14349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 cluster centers; allocate points to closest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455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 allocation; compute best cluster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could be any set of features for which we can compute a distance (careful about sca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1"/>
          <a:stretch/>
        </p:blipFill>
        <p:spPr>
          <a:xfrm>
            <a:off x="2290680" y="5467320"/>
            <a:ext cx="4000680" cy="90180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6741720" y="6613560"/>
            <a:ext cx="239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From Marc Pollefeys COMP 25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2FDD-3CE8-4C10-89E6-5C71128DE0B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63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-M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636480" y="1085760"/>
            <a:ext cx="7736040" cy="489744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>
            <a:off x="6741720" y="6613560"/>
            <a:ext cx="239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From Marc Pollefeys COMP 25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FC11-7455-4268-A19E-DFB66B49E71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97000" y="-360"/>
            <a:ext cx="85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Segmentation by K-M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77880" y="1397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 value of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a feature vector for every pixel (color, texture, position, or combination of these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similarity measure between feature vectors (Usually Euclidean Distan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K-Means Algori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Connected Components Algori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any components of size less than some threshold to an adjacent component that is most similar to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741720" y="6613560"/>
            <a:ext cx="239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From Marc Pollefeys COMP 25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7BB5-02D7-4F37-B6D3-777C2EED927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480960" y="1279440"/>
            <a:ext cx="2603520" cy="325116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3224160" y="1279440"/>
            <a:ext cx="2603520" cy="325116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3"/>
          <a:stretch/>
        </p:blipFill>
        <p:spPr>
          <a:xfrm>
            <a:off x="5967360" y="1279440"/>
            <a:ext cx="2603520" cy="325116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914760" y="5649840"/>
            <a:ext cx="71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means clustering using intensity alone and color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216800" y="480384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457440" y="481320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s on int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372360" y="482760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s on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741720" y="6613560"/>
            <a:ext cx="239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From Marc Pollefeys COMP 25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84040" y="193680"/>
            <a:ext cx="789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of K-Means Cluster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683D-8DA6-4B3B-817F-5BB65D37482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68160" y="1479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onal Sec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tting with RANS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365480" y="3763800"/>
            <a:ext cx="634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should read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one doing a project that 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 from motion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a Fundamental or Essential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93440" y="2914560"/>
            <a:ext cx="37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sens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D53B-13BB-48DB-AB6C-73166B89A7F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NS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28240" y="130644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small subset uniformly at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to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thing that is close to result is signal; all  others ar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is many times and choose the b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792680" y="1306440"/>
            <a:ext cx="4122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tim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enough that we are likely to have a good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big a subs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st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es close me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s on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a good li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where the number of nearby points is so big it is unlikely to be all out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741720" y="6613560"/>
            <a:ext cx="239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From Marc Pollefeys COMP 25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678A-4CD5-4A53-8215-A5B74C1A55D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1255680" y="228600"/>
            <a:ext cx="6997680" cy="619776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/>
          <p:nvPr/>
        </p:nvSpPr>
        <p:spPr>
          <a:xfrm>
            <a:off x="6741720" y="6613560"/>
            <a:ext cx="239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From Marc Pollefeys COMP 25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37A7-C43D-4331-9C40-C2024DBBC1B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ance thresh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 probability for inlier i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.g. 0.9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empir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-mean Gaussian nois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     fol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codimension of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5654520" y="2077920"/>
                <a:ext cx="47340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/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822240" y="2440080"/>
                <a:ext cx="5079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812" name=""/>
          <p:cNvSpPr/>
          <p:nvPr/>
        </p:nvSpPr>
        <p:spPr>
          <a:xfrm>
            <a:off x="3540600" y="2998800"/>
            <a:ext cx="51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dimension+codimension=dimension sp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3" name=""/>
          <p:cNvGraphicFramePr/>
          <p:nvPr/>
        </p:nvGraphicFramePr>
        <p:xfrm>
          <a:off x="2490840" y="3833640"/>
          <a:ext cx="5425920" cy="1559160"/>
        </p:xfrm>
        <a:graphic>
          <a:graphicData uri="http://schemas.openxmlformats.org/drawingml/2006/table">
            <a:tbl>
              <a:tblPr/>
              <a:tblGrid>
                <a:gridCol w="1807920"/>
                <a:gridCol w="1809720"/>
                <a:gridCol w="18082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imen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,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4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σ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,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9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σ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81</a:t>
                      </a:r>
                      <a:r>
                        <a:rPr b="0" lang="el-G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σ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4" name=""/>
          <p:cNvSpPr/>
          <p:nvPr/>
        </p:nvSpPr>
        <p:spPr>
          <a:xfrm>
            <a:off x="6741720" y="6613560"/>
            <a:ext cx="239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From Marc Pollefeys COMP 25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EC7E-8AC4-4E43-90D3-00E6B4774E9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samp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o that, with probability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t least one random sample is free from outliers. e.g.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9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2468520" y="3368520"/>
                <a:ext cx="39322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/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e</m:t>
                                </m:r>
                              </m:e>
                            </m:d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2468520" y="2746440"/>
                <a:ext cx="26481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e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19" name=""/>
          <p:cNvGraphicFramePr/>
          <p:nvPr/>
        </p:nvGraphicFramePr>
        <p:xfrm>
          <a:off x="2744640" y="4160880"/>
          <a:ext cx="5241960" cy="2479680"/>
        </p:xfrm>
        <a:graphic>
          <a:graphicData uri="http://schemas.openxmlformats.org/drawingml/2006/table">
            <a:tbl>
              <a:tblPr/>
              <a:tblGrid>
                <a:gridCol w="655920"/>
                <a:gridCol w="655560"/>
                <a:gridCol w="654120"/>
                <a:gridCol w="684000"/>
                <a:gridCol w="627120"/>
                <a:gridCol w="655560"/>
                <a:gridCol w="654120"/>
                <a:gridCol w="655560"/>
              </a:tblGrid>
              <a:tr h="2826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rtion of outlier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0" name=""/>
          <p:cNvSpPr/>
          <p:nvPr/>
        </p:nvSpPr>
        <p:spPr>
          <a:xfrm>
            <a:off x="6741720" y="6613560"/>
            <a:ext cx="239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From Marc Pollefeys COMP 25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8980-9291-4546-949B-B8F0073DD75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822480" cy="5562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64280" y="92160"/>
            <a:ext cx="20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7880" y="609480"/>
            <a:ext cx="81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humans at least, Gestalt psychology identifies several properties that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rouping/segment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183C-C10A-478E-AC05-C6D04446A1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ptable consensus s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pically, terminate when inlier ratio reaches expected ratio of inli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3200400" y="2971800"/>
                <a:ext cx="15289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</m:e>
                    </m:d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4" name=""/>
          <p:cNvSpPr/>
          <p:nvPr/>
        </p:nvSpPr>
        <p:spPr>
          <a:xfrm>
            <a:off x="6741720" y="6613560"/>
            <a:ext cx="239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From Marc Pollefeys COMP 25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DC27-C571-4EB4-B470-602A19112C5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298160" y="274320"/>
            <a:ext cx="636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aptively determining the number of s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often unknown a priori, so pick worst case, e.g. 50%, and adapt if more inliers are found, e.g. 80% would yiel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0.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∞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mple_cou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mple_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a sample and count the number of in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e=1-(number of inliers)/(total number of poi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mput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ment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ample_cou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4389480" y="5305320"/>
                <a:ext cx="36558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/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e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8" name=""/>
          <p:cNvSpPr/>
          <p:nvPr/>
        </p:nvSpPr>
        <p:spPr>
          <a:xfrm>
            <a:off x="6741720" y="6613560"/>
            <a:ext cx="239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From Marc Pollefeys COMP 25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113F-995F-442A-9779-AB91BC465BC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/>
          </p:nvPr>
        </p:nvSpPr>
        <p:spPr>
          <a:xfrm>
            <a:off x="1633320" y="1244520"/>
            <a:ext cx="685476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tep 1. Extract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tep 2. Compute a set of potential mat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tep 3. 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p 3.1 select minimal sample (i.e. 7 match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p 3.2 compute solution(s) for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p 3.3 determine in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until </a:t>
            </a:r>
            <a:r>
              <a:rPr b="0" lang="de-DE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(#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inliers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,#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)&lt;95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4584600" y="5273640"/>
                <a:ext cx="30211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#inliers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#matches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7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ample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831" name=""/>
          <p:cNvGraphicFramePr/>
          <p:nvPr/>
        </p:nvGraphicFramePr>
        <p:xfrm>
          <a:off x="4278240" y="5997600"/>
          <a:ext cx="3459240" cy="603000"/>
        </p:xfrm>
        <a:graphic>
          <a:graphicData uri="http://schemas.openxmlformats.org/drawingml/2006/table">
            <a:tbl>
              <a:tblPr/>
              <a:tblGrid>
                <a:gridCol w="878040"/>
                <a:gridCol w="517320"/>
                <a:gridCol w="504720"/>
                <a:gridCol w="527040"/>
                <a:gridCol w="516240"/>
                <a:gridCol w="5158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inlie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sampl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2" name=""/>
          <p:cNvSpPr/>
          <p:nvPr/>
        </p:nvSpPr>
        <p:spPr>
          <a:xfrm>
            <a:off x="1638360" y="3811680"/>
            <a:ext cx="688320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0400" indent="-5904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Step 4. Compute F based on all inli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Step 5. Look for additional match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Step 6. Refine F based on all correct match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4798080" y="2235240"/>
            <a:ext cx="4383000" cy="1130040"/>
            <a:chOff x="4798080" y="2235240"/>
            <a:chExt cx="4383000" cy="1130040"/>
          </a:xfrm>
        </p:grpSpPr>
        <p:sp>
          <p:nvSpPr>
            <p:cNvPr id="834" name=""/>
            <p:cNvSpPr/>
            <p:nvPr/>
          </p:nvSpPr>
          <p:spPr>
            <a:xfrm>
              <a:off x="7761240" y="2387520"/>
              <a:ext cx="141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(generat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hypothesi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798080" y="2997000"/>
              <a:ext cx="214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(verify hypothesi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6" name=""/>
                <p:cNvSpPr txBox="1"/>
                <p:nvPr/>
              </p:nvSpPr>
              <p:spPr>
                <a:xfrm>
                  <a:off x="7035840" y="2235240"/>
                  <a:ext cx="24624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37" name=""/>
          <p:cNvSpPr/>
          <p:nvPr/>
        </p:nvSpPr>
        <p:spPr>
          <a:xfrm>
            <a:off x="1800360" y="40968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SAC for Fundamental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741720" y="6613560"/>
            <a:ext cx="239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From Marc Pollefeys COMP 25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E06F-8F77-4737-BA05-CFCB48D1970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/>
          </p:nvPr>
        </p:nvSpPr>
        <p:spPr>
          <a:xfrm>
            <a:off x="1633320" y="1320840"/>
            <a:ext cx="6854760" cy="27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0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tep 1. Extract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tep 2. Compute a set of potential mat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tep 3. 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p 3.1 select minimal sample (i.e. 7 match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p 3.2 compute solution(s) for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p 3.3 Randomize ver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3.1 verify if inli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hile hypothesis is still prom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lang="de-DE" sz="2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(#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inliers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,#</a:t>
            </a:r>
            <a:r>
              <a:rPr b="0" i="1" lang="de-DE" sz="22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)&lt;95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671480" y="4375080"/>
            <a:ext cx="688356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0400" indent="-5904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Step 4. Compute F based on all inli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Step 5. Look for additional match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Step 6. Refine F based on all correct match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637400" y="2273400"/>
            <a:ext cx="14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(gene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ypothe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995160" y="3411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(verify hypothe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7035840" y="2235240"/>
                <a:ext cx="245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844" name=""/>
          <p:cNvSpPr/>
          <p:nvPr/>
        </p:nvSpPr>
        <p:spPr>
          <a:xfrm>
            <a:off x="1800360" y="40968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omized RANSAC for Fundamental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6567480" y="3233880"/>
                <a:ext cx="2462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846" name=""/>
          <p:cNvSpPr/>
          <p:nvPr/>
        </p:nvSpPr>
        <p:spPr>
          <a:xfrm>
            <a:off x="6741720" y="6613560"/>
            <a:ext cx="239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From Marc Pollefeys COMP 25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01B1-6F31-4C92-965D-FDE7A53F449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: robust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4216320" y="5029200"/>
            <a:ext cx="1914480" cy="143676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2"/>
          <a:stretch/>
        </p:blipFill>
        <p:spPr>
          <a:xfrm>
            <a:off x="2039760" y="1714680"/>
            <a:ext cx="1914840" cy="143640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3"/>
          <a:stretch/>
        </p:blipFill>
        <p:spPr>
          <a:xfrm>
            <a:off x="4216320" y="1714680"/>
            <a:ext cx="1914480" cy="143640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4"/>
          <a:stretch/>
        </p:blipFill>
        <p:spPr>
          <a:xfrm>
            <a:off x="2039760" y="3373560"/>
            <a:ext cx="1914840" cy="143640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5"/>
          <a:stretch/>
        </p:blipFill>
        <p:spPr>
          <a:xfrm>
            <a:off x="4216320" y="3373560"/>
            <a:ext cx="1914480" cy="1436400"/>
          </a:xfrm>
          <a:prstGeom prst="rect">
            <a:avLst/>
          </a:prstGeom>
          <a:ln w="0">
            <a:noFill/>
          </a:ln>
        </p:spPr>
      </p:pic>
      <p:pic>
        <p:nvPicPr>
          <p:cNvPr id="853" name="" descr=""/>
          <p:cNvPicPr/>
          <p:nvPr/>
        </p:nvPicPr>
        <p:blipFill>
          <a:blip r:embed="rId6"/>
          <a:stretch/>
        </p:blipFill>
        <p:spPr>
          <a:xfrm>
            <a:off x="2039760" y="5029200"/>
            <a:ext cx="1914840" cy="143676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6130800" y="1714680"/>
            <a:ext cx="30132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00/im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40x48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130800" y="3373560"/>
            <a:ext cx="30132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tative correspondences (26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est match,SSD&lt;20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±3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liers (1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1.25 pixel; 43 itera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6130800" y="5029200"/>
            <a:ext cx="30132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liers (15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inliers (26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 MLE-inlier cycle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0.2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→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0.19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Lev-M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7" name=""/>
          <p:cNvGraphicFramePr/>
          <p:nvPr/>
        </p:nvGraphicFramePr>
        <p:xfrm>
          <a:off x="74520" y="2638440"/>
          <a:ext cx="1575000" cy="1749240"/>
        </p:xfrm>
        <a:graphic>
          <a:graphicData uri="http://schemas.openxmlformats.org/drawingml/2006/table">
            <a:tbl>
              <a:tblPr/>
              <a:tblGrid>
                <a:gridCol w="385920"/>
                <a:gridCol w="457200"/>
                <a:gridCol w="731880"/>
              </a:tblGrid>
              <a:tr h="25416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pt. </a:t>
                      </a: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8" name=""/>
          <p:cNvSpPr/>
          <p:nvPr/>
        </p:nvSpPr>
        <p:spPr>
          <a:xfrm>
            <a:off x="6842520" y="97164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H&amp;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996640" y="6613560"/>
            <a:ext cx="239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From Marc Pollefeys COMP 25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9F25-CB30-4FC9-A18E-5DE1FF55E8A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n robust 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620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edS, an alternative to RANS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nimize Median residual in stead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ing inlier cou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ments to RANS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ized RANS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‘good’ matches more frequ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SAC is also somewhat robust to bugs, sometimes it just takes a bit long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741720" y="6613560"/>
            <a:ext cx="239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From Marc Pollefeys COMP 25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BDD4-84A3-4BDE-85ED-560F05F4293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quenc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s by Invisible Comple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8991720" cy="2360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38320" y="6613560"/>
            <a:ext cx="530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Images from Steve Lehar’s Gestalt papers: http://cns-alumni.bu.edu/pub/slehar/Lehar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4495680"/>
            <a:ext cx="9144000" cy="1835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2320" y="3962520"/>
            <a:ext cx="53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ing the invisible group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B65B-FAAB-411B-BF6D-E3FA586DA7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quenc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s by Invisible Comple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38320" y="6613560"/>
            <a:ext cx="530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Images from Steve Lehar’s Gestalt papers: http://cns-alumni.bu.edu/pub/slehar/Lehar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133720" y="1143000"/>
            <a:ext cx="4600440" cy="480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DC82-2949-4663-92D5-819BEB6A2D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quenc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ings by Invisible Comple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4686480" cy="4781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838320" y="6613560"/>
            <a:ext cx="530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Images from Steve Lehar’s Gestalt papers: http://cns-alumni.bu.edu/pub/slehar/Lehar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2A66-14C9-463F-86F9-CC5BC15B14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7T23:57:05Z</dcterms:created>
  <dc:creator>Intel Corporation</dc:creator>
  <dc:description/>
  <dc:language>en-US</dc:language>
  <cp:lastModifiedBy>gary</cp:lastModifiedBy>
  <dcterms:modified xsi:type="dcterms:W3CDTF">2004-02-09T03:11:56Z</dcterms:modified>
  <cp:revision>13</cp:revision>
  <dc:subject/>
  <dc:title>Lecture 11 Segmentation</dc:title>
</cp:coreProperties>
</file>